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01A1-808D-4B20-A070-7E4602AF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6B84-C34F-45DD-AE8A-7106C97A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489-400D-4F61-9BF4-C9F86805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97A2-0395-43B4-9F5E-BFE96D7B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7B1-70D4-4BD8-AFB1-307831FB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A73-BA1D-42A0-ABF0-F3742FC8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9E8-8045-4A83-BF6F-D2C1DACC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13A-DF72-43AF-9322-E7FF7CE9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8C2F-DAA4-4AAF-A014-E678C3D9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6D28-0023-4C12-AFC8-32DE2910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36D-6583-461E-894B-CE23515A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0FD1-D377-49A5-B10C-DD778600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B4BB-F221-4ADD-BB71-5AE10A277D7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E</a:t>
            </a:r>
            <a:r>
              <a:rPr b="1" lang="lv-LV" sz="5400" spc="-1" strike="noStrike">
                <a:solidFill>
                  <a:srgbClr val="558ed5"/>
                </a:solidFill>
                <a:latin typeface="Calibri"/>
              </a:rPr>
              <a:t>-</a:t>
            </a: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mobilitātes</a:t>
            </a:r>
            <a:br>
              <a:rPr sz="5400"/>
            </a:br>
            <a:r>
              <a:rPr b="1" lang="lv-LV" sz="5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jomas</a:t>
            </a:r>
            <a:r>
              <a:rPr b="1" lang="lv-LV" sz="5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jaunumi</a:t>
            </a:r>
            <a:r>
              <a:rPr b="1" lang="lv-LV" sz="5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Latvijā</a:t>
            </a:r>
            <a:br>
              <a:rPr sz="5400"/>
            </a:b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 un</a:t>
            </a:r>
            <a:br>
              <a:rPr sz="5400"/>
            </a:b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 ieskats NEKP 2030 </a:t>
            </a:r>
            <a:br>
              <a:rPr sz="32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aisnstūris 4"/>
          <p:cNvSpPr/>
          <p:nvPr/>
        </p:nvSpPr>
        <p:spPr>
          <a:xfrm>
            <a:off x="857160" y="478620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rnis Berg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biedrības “Bezizmešu mobilitātes atbalsta biedrība” </a:t>
            </a:r>
            <a:br>
              <a:rPr sz="2400"/>
            </a:b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ldes priekšsēdētāj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ETL uzlāde daudzdzīvokļu māju iedzīvotāji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tas skaitīšana 2011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dzdzīvokļu mājās dzīvo 68,0%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ndividuālajās mājās – 28,3%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vīņu mājās un divu dzīvokļu mājās katrā – 1,1%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indu mājās – 0,6%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edzīvojamās ēkās – 0,1%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as iedzīvotā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A6B3-636F-46D5-A286-B29D6C44D42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LBN 208-15 “Publiskas būv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89.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 Publiskās ēkās ar vairāk nek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0 autostāvvietām paredz vismaz vienu elektrotransportlīdzekļu uzlādes punktu, kā arī katrai piektajai autostāvvietai paredz kanālus elektrības kabeļiem, lai, ja nepieciešams, varētu ierīkot elektrotransportlīdzekļu uzlādes punktu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737A-2B55-4405-814F-080A3FAFD31F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LBN 211-15 “Dzīvojamās ēka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8.5. dzīvojamās ēkās ar vairāk nekā 10 autostāvvietām katrai autostāvvietai kanālus elektrības kabeļiem, lai, ja nepieciešams, varētu ierīkot elektrotransportlīdzekļu uzlādes punktu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C67B-1B8F-4016-B1D9-C3B382DACC7C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atuma vietturis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Uzlādes pieslēgumu</a:t>
            </a:r>
            <a:br>
              <a:rPr sz="4400"/>
            </a:b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lv-LV" sz="4400" spc="-1" strike="noStrike">
                <a:solidFill>
                  <a:srgbClr val="558ed5"/>
                </a:solidFill>
                <a:latin typeface="Calibri"/>
              </a:rPr>
              <a:t>balansējošais slēgums</a:t>
            </a: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: </a:t>
            </a:r>
            <a:br>
              <a:rPr sz="4400"/>
            </a:b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papildus signāla kabeli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21430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ek izmantota elektroenerģijas pieslēguma brīvā jau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uzlādes jaudu ierobežo, atkarībā no reālajā laikā pieejamās jaud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niedz iespēju pieejamo jaudu sadalīt starp EM uzlādes pieslēg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53A3-6047-4304-A863-74F415B93F6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Alternatīvo degvielu attīstības plāns 2017.–2020. gad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.10.Noteiktas prasības ieviest uzlādes iespēju publiskos stāvlaukumos (stāvvietās) pie jaunām un renovētām ēkām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icamās darbīb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strādāti nosacījumi, lai Eiropas Savienības struktūrfondu vai citu finansējuma avotu ietvaros īstenotu atbalsta pasākumu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EA61-947D-4404-90CC-57075C1727DE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Grozījumi </a:t>
            </a:r>
            <a:br>
              <a:rPr sz="4400"/>
            </a:b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Ēku energoefektivitātes likum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Priekšlikumi 3.lasījumam Saei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4. pants. Ekspluatējamu ēku minimālās energoefektivitātes prasīb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1) Ekspluatējamu ēku minimālās energoefektivitātes prasības nosaka attiecībā u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elektrotransportlīdzekļu uzlādes punktu ierīkošanu.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57B6-6A71-442F-BA2A-4AD3F65304C3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1.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7) tiek atbalstīta elektroinstalācijas izveide daudzdzīvokļu dzīvojamās ēkās konkrētās autostāvviet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00C3-8F00-4A0C-906E-088D18025AA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2. Veicināt un atbalstīt mazemisiju transportlīdzekļu un bezemisiju transportlīdzekļu iegādi privātpersonām vai komersant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2.1.finansiāls atbalsts ETL vai velo transportlīdzekļa iegād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balsts tiek sniegts līdz 15 000 bezemisiju, mazemisiju transportlīdzekļu iegād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2685-1529-49D5-84AF-8CFFD326F22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2.2. izveidot ALTUM aizdevumu vai garantiju programmu mazemisiju vai bezemisiju automobiļu iegādei privātperson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) ar dabasgāzi (tostarp biometānu) darbināmu transportlīdzekļu skaits 2030.gadā līdz 30 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FCA7-CF60-45BC-AC81-BE7E0F4996DF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4.Palielināt mazemisiju un bezemisiju, transportlīdzekļu skaitu caur publisko iepirkumu veiktajos pakalpojumos un piegād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BFDD-2E11-45DD-8186-794FB795B65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Elektromobiļu skaita prognoz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01.07.2020. 854 EM (M1 un N1);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8.g.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0%, 2019.g.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48%, 2020.g.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27% (6 mēn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tiksmes ministrija – 6’000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30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S Latvenergo – 36’500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2030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as NAP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ulles emisiju transportlīdzekļu īpatsvars visu transportlīdzekļu skaitā 2% 2027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uma vietturis 3"/>
          <p:cNvSpPr/>
          <p:nvPr/>
        </p:nvSpPr>
        <p:spPr>
          <a:xfrm>
            <a:off x="32860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52A5-01DE-41F2-B3DF-43091E649118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11.Veicināt maza ātruma transportlīdzekļu infrastruktūras attīstīb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ansportlīdzekļi, kuru maksimālais ātrums ir 45km/h, piemēram, mazas jaudas motorolleri, mazas jaudas motocikli, izņemot lauksaimniecības un mežsaimniecības tehni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Faktiskās kategorijas: Mopēd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i arī Kvadrimobiļ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1734-FD52-4932-A754-CDEA8811921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558ed5"/>
                </a:solidFill>
                <a:latin typeface="Calibri"/>
              </a:rPr>
              <a:t>Jautājum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99680" y="4571640"/>
            <a:ext cx="397188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u lietotāju Salidojums Latvijā Bānīša svētk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05.09.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C173-A739-4239-AAF6-819C0DB4038F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uma vietturis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C:\Users\User\Desktop\Arnis\e 06122019\1 Salidojums Bānīša svētkos\Foto 2020\Publikacijai\P1040018.JPG"/>
          <p:cNvPicPr/>
          <p:nvPr/>
        </p:nvPicPr>
        <p:blipFill>
          <a:blip r:embed="rId1"/>
          <a:stretch/>
        </p:blipFill>
        <p:spPr>
          <a:xfrm>
            <a:off x="285840" y="100008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:\Users\User\Desktop\Arnis\e 06122019\1 Salidojums Bānīša svētkos\Foto 2020\Publikacijai\P1040036.JPG"/>
          <p:cNvPicPr/>
          <p:nvPr/>
        </p:nvPicPr>
        <p:blipFill>
          <a:blip r:embed="rId2"/>
          <a:stretch/>
        </p:blipFill>
        <p:spPr>
          <a:xfrm>
            <a:off x="4643280" y="371484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Granti elektrisko transportlīdzekļu iegādei Igaunijā 2020.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157140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5’000EUR par EM (M1, N1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vātpersonām un juridiskajām personām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&lt;50’000 EUR bez PV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4 gadu laikā ir jāveic 80’000 km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ismaz 80% no veiktā nobraukumu ir jāveic Igaunij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rmā kārta: 1,2 miljoni EUR: 232 EM, 4 h laik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Otrā kārta no oktobra: 400’000 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uma vietturis 3"/>
          <p:cNvSpPr/>
          <p:nvPr/>
        </p:nvSpPr>
        <p:spPr>
          <a:xfrm>
            <a:off x="321480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3D54-D614-4114-A708-3E43E87E99B2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aisnstūris 5"/>
          <p:cNvSpPr/>
          <p:nvPr/>
        </p:nvSpPr>
        <p:spPr>
          <a:xfrm>
            <a:off x="5500800" y="55720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agatavoja Kārlis Mendziņ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Uzlādēts.lv galvenais redak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Granti elektrisko transportlīdzekļu iegādei Lietuvā 2020.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’000EUR par jaunu transportlīdzekli (M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’000EUR par lietotu transportlīdzek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’000EUR norakstot veco auto: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to/riteņa/mopēda iegādei vai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biedriskajam transport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kai privātpersonām. Budžets: 5 miljoni E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B2F6-9A23-4204-B819-C7B13A69473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aisnstūris 6"/>
          <p:cNvSpPr/>
          <p:nvPr/>
        </p:nvSpPr>
        <p:spPr>
          <a:xfrm>
            <a:off x="4143240" y="5572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agatavoja Kārlis Mendziņ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Uzlādēts.lv galvenais redak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Jauno EM praktiskā autonomija – 200 - 300 - 400k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49976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lces akumulatoru kapacitā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olkswagen e-Up! (2014)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kWh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olkswagen e-Up!: 36,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Wh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issan Leaf (2014): 24kW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issan Leaf: 38kW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issan Leaf e+: 62kW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di e-tron: 95kW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DB94-1D9F-4CAE-AF5E-491DD43AB59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EM nodotā elektroenerģija (kWh) </a:t>
            </a:r>
            <a:br>
              <a:rPr sz="4400"/>
            </a:b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e-mobi un Elektrum uzlādes tīkl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993D-BF04-43DF-BFA7-325D8D646182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atura vietturis 6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AS “Latvenergo” prognoze par uzlādes vietas izvēles secību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) 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mājās (dominējoši pirmā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75-80% elektromobiļu īpašnieku izvēlēsies regulāri veikt elektromobiļa uzlādi mājās, izmantojot 2-11 kW jaudas pieslēgumu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71C7-FA6F-4068-BB73-1D0C5DB47B4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uma vietturis 3"/>
          <p:cNvSpPr/>
          <p:nvPr/>
        </p:nvSpPr>
        <p:spPr>
          <a:xfrm>
            <a:off x="500040" y="6357960"/>
            <a:ext cx="20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atuma vietturis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AS “Latvenergo” prognoze par uzlādes vietas izvēles secību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) darbā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) ilgākas apstāšanās vietā (vairākas stundas), kur uzlāde neliek mainīt dienas plānoju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BC6C-FE0E-4D20-8358-F14DAED3DEA2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Uzlāde ilgstošas, lietderīgas, apstāšanās vietā: apskate, izklaide, iepirkšanās, maltītes ieturēšana, naktsmīt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E610-FE15-429F-8687-BBB53D8C255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Users\User\Desktop\Arnis\e 06122019\PUBLIKACIJAS\2020\4 jauni uzlādes punkti\Uzlādes pieslēgums Lielbornes muižā.jpg"/>
          <p:cNvPicPr/>
          <p:nvPr/>
        </p:nvPicPr>
        <p:blipFill>
          <a:blip r:embed="rId1"/>
          <a:stretch/>
        </p:blipFill>
        <p:spPr>
          <a:xfrm>
            <a:off x="714240" y="3751200"/>
            <a:ext cx="3357720" cy="2517840"/>
          </a:xfrm>
          <a:prstGeom prst="rect">
            <a:avLst/>
          </a:prstGeom>
          <a:ln w="0">
            <a:noFill/>
          </a:ln>
        </p:spPr>
      </p:pic>
      <p:sp>
        <p:nvSpPr>
          <p:cNvPr id="77" name="Taisnstūris 8"/>
          <p:cNvSpPr/>
          <p:nvPr/>
        </p:nvSpPr>
        <p:spPr>
          <a:xfrm>
            <a:off x="4357800" y="4071960"/>
            <a:ext cx="40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ttēlā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zlādes pieslēgums Lielbornes muiž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ekļauts BIMAB uzturēta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e-tīkla uzlādes punktu kartē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uma vietturis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00040" y="285984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2020.g.:  Zemgalē  Lauku māja "Caunītes" (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Cenu pagasts,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Ozolnieku novad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1:57:36Z</dcterms:created>
  <dc:creator>Arnis</dc:creator>
  <dc:description/>
  <dc:language>en-US</dc:language>
  <cp:lastModifiedBy>Arnis 15.06.</cp:lastModifiedBy>
  <dcterms:modified xsi:type="dcterms:W3CDTF">2020-09-27T16:56:28Z</dcterms:modified>
  <cp:revision>711</cp:revision>
  <dc:subject/>
  <dc:title>Slide 1</dc:title>
</cp:coreProperties>
</file>