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7CE-A1CF-4E19-B575-B505A73E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257-9796-4F28-B686-1D83D20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89E-3DC0-48D3-A369-14E00DE9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FFF-5F2B-4ABF-988E-8C09C458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A0B-B58F-4ED4-9810-B7815BE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20D-9A7D-4AE5-93FB-11C5ED0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4AF-4C32-4385-B968-BD8CC537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424-D9BD-4D7F-8555-15BBCD0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170-AF0E-4B71-9B87-CF82045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692-1E6D-493B-A5E8-159DCFA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506-1196-4A1C-BA84-415389C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D54-4F56-4C00-A5BF-CE73091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30F-BA31-461B-A851-87C7A68FF2E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E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mobilitātes</a:t>
            </a:r>
            <a:br>
              <a:rPr sz="5400"/>
            </a:b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omas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aunumi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Latvijā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un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ieskats NEKP 2030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aisnstūris 4"/>
          <p:cNvSpPr/>
          <p:nvPr/>
        </p:nvSpPr>
        <p:spPr>
          <a:xfrm>
            <a:off x="857160" y="4786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nis Ber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biedrības “Bezizmešu mobilitātes atbalsta biedrība”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TL uzlāde daudzdzīvokļu māju iedzīvotāj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tas skaitīšana 201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dzdzīvokļu mājās dzīvo 68,0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dividuālajās mājās – 28,3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vīņu mājās un divu dzīvokļu mājās katrā – 1,1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indu mājās – 0,6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edzīvojamās ēkās – 0,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iedzīvotā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DBE9-A455-4557-977B-2367EC9E580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08-15 “Publiskas būv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89.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Publiskās ēkās ar vairāk nek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0 autostāvvietām paredz vismaz vienu elektrotransportlīdzekļu uzlādes punktu, kā arī katrai piektajai autostāvvietai paredz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888-D064-4FC1-91C3-F7400C80AA4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11-15 “Dzīvojamās ēka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8.5. dzīvojamās ēkās ar vairāk nekā 10 autostāvvietām katrai autostāvvietai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8E91-D0FD-4716-973B-BE1529E1109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s pieslēgumu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balansējošais slēgums</a:t>
            </a: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papildus signāla kabeli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430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ek izmantota elektroenerģijas pieslēguma brīvā ja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uzlādes jaudu ierobežo, atkarībā no reālajā laikā pieejamās jau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niedz iespēju pieejamo jaudu sadalīt starp EM uzlādes pieslēg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B739-D42A-4B28-B6BC-3D9F58BBF40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lternatīvo degvielu attīstības plāns 2017.–2020. ga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10.Noteiktas prasības ieviest uzlādes iespēju publiskos stāvlaukumos (stāvvietās) pie jaunām un renovētām ēkā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icamās darbīb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āti nosacījumi, lai Eiropas Savienības struktūrfondu vai citu finansējuma avotu ietvaros īstenotu atbalsta pasākum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BF91-5E83-4198-8CAE-FEE73EB005D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ozījumi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Ēku energoefektivitātes likum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Priekšlikumi 3.lasījumam Saei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4. pants. Ekspluatējamu ēku minimālās energoefektivitātes prasīb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1) Ekspluatējamu ēku minimālās energoefektivitātes prasības nosaka attiecībā u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lektrotransportlīdzekļu uzlādes punktu ierīkošanu.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06F-EA26-46EA-964B-F2076B991F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7) tiek atbalstīta elektroinstalācijas izveide daudzdzīvokļu dzīvojamās ēkās konkrētās autostāvviet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D43D-98BC-495B-BAAF-3CAA70B1B46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 Veicināt un atbalstīt mazemisiju transportlīdzekļu un bezemisiju transportlīdzekļu iegādi privātpersonām vai komersant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1.finansiāls atbalsts ETL vai velo transportlīdzekļa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alsts tiek sniegts līdz 15 000 bezemisiju, mazemisiju transportlīdzekļu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EF0-148F-48A9-A906-404507AE278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2. izveidot ALTUM aizdevumu vai garantiju programmu mazemisiju vai bezemisiju automobiļu iegādei privātperson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) ar dabasgāzi (tostarp biometānu) darbināmu transportlīdzekļu skaits 2030.gadā līdz 30 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B40-25E1-47A4-A5C6-B59DEE8AFE2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4.Palielināt mazemisiju un bezemisiju, transportlīdzekļu skaitu caur publisko iepirkumu veiktajos pakalpojumos un piegād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6CC5-0E1E-4F59-B180-0E840620326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lektromobiļu skaita progno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7.2020. 854 EM (M1 un N1);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0%, 2019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48%, 2020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7% (6 mēn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tiksmes ministrija – 6’000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Latvenergo – 36’500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NAP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ulles emisiju transportlīdzekļu īpatsvars visu transportlīdzekļu skaitā 2% 2027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32860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B0B-8D45-4C65-8C35-DF398B66317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1.Veicināt maza ātruma transportlīdzekļu infrastruktūras attīstī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nsportlīdzekļi, kuru maksimālais ātrums ir 45km/h, piemēram, mazas jaudas motorolleri, mazas jaudas motocikli, izņemot lauksaimniecības un mežsaimniecības tehn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aktiskās kategorijas: Mopē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i arī Kvadrimobiļ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431-9C1F-4C8E-829E-1BAFA5F3013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Jautāj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4571640"/>
            <a:ext cx="397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lietotāju Salidojums Latvijā Bānīša svētk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05.09.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DB4-EB09-4981-B3EE-63110B010FB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uma vietturis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User\Desktop\Arnis\e 06122019\1 Salidojums Bānīša svētkos\Foto 2020\Publikacijai\P1040018.JPG"/>
          <p:cNvPicPr/>
          <p:nvPr/>
        </p:nvPicPr>
        <p:blipFill>
          <a:blip r:embed="rId1"/>
          <a:stretch/>
        </p:blipFill>
        <p:spPr>
          <a:xfrm>
            <a:off x="285840" y="1000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Arnis\e 06122019\1 Salidojums Bānīša svētkos\Foto 2020\Publikacijai\P1040036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Igaunij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’000EUR par EM (M1, N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vātpersonām un juridiskajām personā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&lt;50’000 EUR bez PV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4 gadu laikā ir jāveic 80’000 k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smaz 80% no veiktā nobraukumu ir jāveic Igaunij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ā kārta: 1,2 miljoni EUR: 232 EM, 4 h laik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Otrā kārta no oktobra: 400’000 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uma vietturis 3"/>
          <p:cNvSpPr/>
          <p:nvPr/>
        </p:nvSpPr>
        <p:spPr>
          <a:xfrm>
            <a:off x="321480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B73E-73E1-4C4A-9145-568EA78825C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aisnstūris 5"/>
          <p:cNvSpPr/>
          <p:nvPr/>
        </p:nvSpPr>
        <p:spPr>
          <a:xfrm>
            <a:off x="5500800" y="5572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Lietuv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’000EUR par jaunu transportlīdzekli (M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’000EUR par lietotu transportlīdzek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’000EUR norakstot veco auto: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/riteņa/mopēda iegādei vai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biedriskajam transport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kai privātpersonām. Budžets: 5 miljoni 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3C0-0E39-4CF2-8101-F67619CA31D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aisnstūris 6"/>
          <p:cNvSpPr/>
          <p:nvPr/>
        </p:nvSpPr>
        <p:spPr>
          <a:xfrm>
            <a:off x="41432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Jauno EM praktiskā autonomija – 200 - 300 - 400k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lces akumulatoru kapacitā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 (2014)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: 36,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(2014): 24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: 38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e+: 62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di e-tron: 95kW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415-01B4-40BF-A3BB-CE4395FCB2E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M nodotā elektroenerģija (kWh)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-mobi un Elektrum uzlādes tīkl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5E19-3EE0-4488-BCF6-9D0B017E6FC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atura vietturis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mājās (dominējoši pirmā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75-80% elektromobiļu īpašnieku izvēlēsies regulāri veikt elektromobiļa uzlādi mājās, izmantojot 2-11 kW jaudas pieslēgumu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611-3547-4EFA-BEC1-602566181D5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uma vietturis 3"/>
          <p:cNvSpPr/>
          <p:nvPr/>
        </p:nvSpPr>
        <p:spPr>
          <a:xfrm>
            <a:off x="500040" y="635796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) darb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ilgākas apstāšanās vietā (vairākas stundas), kur uzlāde neliek mainīt dienas plāno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082-8D39-465F-B9F0-DC5E5C1B0A7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 ilgstošas, lietderīgas, apstāšanās vietā: apskate, izklaide, iepirkšanās, maltītes ieturēšana, naktsmī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B7A-B38D-4C47-9B74-891201DFCDD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User\Desktop\Arnis\e 06122019\PUBLIKACIJAS\2020\4 jauni uzlādes punkti\Uzlādes pieslēgums Lielbornes muižā.jpg"/>
          <p:cNvPicPr/>
          <p:nvPr/>
        </p:nvPicPr>
        <p:blipFill>
          <a:blip r:embed="rId1"/>
          <a:stretch/>
        </p:blipFill>
        <p:spPr>
          <a:xfrm>
            <a:off x="714240" y="375120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77" name="Taisnstūris 8"/>
          <p:cNvSpPr/>
          <p:nvPr/>
        </p:nvSpPr>
        <p:spPr>
          <a:xfrm>
            <a:off x="435780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tēl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lādes pieslēgums Lielbornes muiž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ekļauts BIMAB uzturēta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e-tīkla uzlādes punktu kart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uma vietturis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0040" y="2859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2020.g.:  Zemgalē  Lauku māja "Caunītes" (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Cenu pagasts,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Ozolnieku nova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rnis 15.06.</cp:lastModifiedBy>
  <dcterms:modified xsi:type="dcterms:W3CDTF">2020-09-27T16:56:28Z</dcterms:modified>
  <cp:revision>711</cp:revision>
  <dc:subject/>
  <dc:title>Slide 1</dc:title>
</cp:coreProperties>
</file>