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FC49-6FC7-4108-8A4E-7A2C9BD8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3B1-18DA-4FF8-9FCD-D55482DE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7D3-B42D-441F-8B4D-72D38718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9743-08DC-4E63-AA6E-984B6CC4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B47C-99EA-4A98-B67A-FE5007F2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AD2-BB1B-49BB-B971-A6A2DA55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9B39-D827-475C-BB43-D018931C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B898-01D9-4919-B1C1-5543D532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FCCE-1368-40EB-BCB9-7315791D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4C59-D062-4FB3-86C6-B8013BF0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99F-A31D-4932-BCB1-EE94A258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80E8-21A3-443F-858B-CA23E974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Bezizmešu mobilitātes atbalsta biedrība: www.bimab.lv   E-transports: www.e-transport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17.jūnij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0707-8447-4033-B27B-C84145328792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utodati.lv/El_uzl_tikls.pdf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info@bimab.l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451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Ieteikumi plāna projektam</a:t>
            </a: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„Alternatīvo degvielu/atjaunojamās enerģijas izmantošanas perspektīva transportā Zemgales reģionā”</a:t>
            </a: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 (Atj en transportaa_ZPR_v10-1)</a:t>
            </a:r>
            <a:br>
              <a:rPr sz="3200"/>
            </a:br>
            <a:br>
              <a:rPr sz="32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Arnis Bergs,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Bezizmešu mobilitātes atbalsta biedrības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(BIMAB)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valdes priekšsēdētā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059280" y="692280"/>
            <a:ext cx="2552400" cy="11300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autonomija</a:t>
            </a:r>
            <a:br>
              <a:rPr sz="4400"/>
            </a:b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(nobraukums līd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braukums (Plāns 39.lp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pases datos – saskaņā 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D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ew European Driving Cycle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reālā nobraukuma koeficients Latvij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sarā – k = 0,78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iemā – k = 0,6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(pētījums “Latvijas nacionālā elektrotransportlīdzekļu uzlādes tīkla izveidošanas analīze”, 34.lp., </a:t>
            </a:r>
            <a:r>
              <a:rPr b="0" lang="lv-LV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utodati.lv/El_uzl_tikls.pdf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AM tradicionālo degvielu patēriņa koeficients: ?!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ACD5-B59D-4C3F-8F74-81F88C74938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autonomija</a:t>
            </a:r>
            <a:br>
              <a:rPr sz="4400"/>
            </a:b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(nobraukums līd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Nissan Lea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 kWh, 378  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ālā nobraucamā attāluma aprēķi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=75km/h , “ECO” režīms ieslēg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sara (+15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) - 250km (k = 0,66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iema (-10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) - 2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m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= 0,53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Nissan d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41C8-D609-4F49-8980-2DAFD7ED6F13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vilces akumulat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iem ir ierobežots darba mūž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u maiņa ir dārga, tāpēc otrreizējās pārdošanas iespējas var būt ierobežotas” (Plāns, 38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vilces akumulatoru garantij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atlikusī ietilpība 70 -75% no sākotnējā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braukums līdz 200 tūkst. km vai līdz 8 gadi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Benzīna un dīzeļa mazlitrāžas moto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garantijas laiks, resurss, nomaiņas izmaksas -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17.jūnij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59D4-4F83-49AA-A8D3-823590C1BCC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Uzlādes pieslēg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r vienfāžu 230 V rozete vai sienas uzlādes skapītis, kuri nodrošina uzlādi no 3,6 kW, 16 A, 230 V vienfāžu elektrotīkla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(Plāns, 39.lp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lektromobiļa uzlādes strāv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dzīves rozete – līdz 10A (2,3kW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speciālos EM maiņstrāvas pieslēgumus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wall - box” vai citā konstruktīvā izpildījumā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z 3x32A (22kW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A5A0-46C0-4EAA-9683-45082031E1F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Tes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u grupā virs 31 kWh ietilps 25.6% no pētītajiem ETL. Tie pamatā ir Tesla ETL” (Plāns, 41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lektromobiļa apkopes un remonts: ku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VW e-Golf: 35,8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Wh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300 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Nissan Lea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 kWh, 378  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20AD-F89C-4572-AD7D-CB4D7745C24E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Ūdeņraža - elektriskie transportlīdz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Ūdeņraža transporta infrastruktūra (Plāns, 45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ģionu un pārrobežu sadarbīb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8.gadā Rīgā plānots uzstādīt ūdeņraža (H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) uzpildes staciju. Publiski pieejamā H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pildes stacija Rīgā nodrošinās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starpvalstu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ūdeņraža uzpildes staciju tīkl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BE13-D46B-4124-A4DC-70AC4B06F733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u skaita trīskāršošana (36 elektromobili) līd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025. gadam.” (Plāns, 56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skaita pieaugums:  2015.gadā par 12%,  2016.g. – 16%,  2017.gadā – 29%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01.01.2018. reģistrēti kopā 325 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70 – Rīgā, 65 – Rīgai tuvākajās pašvaldībā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CSDD EVK daļas d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77EC-0E84-41E9-BE4D-D923B14B1623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6532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adicionālo degvielu motoru automobiļu (AM) pieejamības ierobežojumi no 2025.ga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lstu atteikšanās no jauno AM reģistrācija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M ražotāju plāni par “elektrifikāciju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īgas satiksme” vairs neiegādāsies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īzeļdegvielas autobus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īgas Tehniskā universitāte pirks tik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vai hibrīd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5D19-5434-4180-A79E-DBE58EB5BFDA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P un Padomes 2009.gada 23.aprīļa regula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43/2009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emisiju prasības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jauniem vieglajiem AM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ējo emisiju rādītājs līdz 95 g 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/km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s jāpiemēro no 2020. gad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a par pārsniegšanu no 2019.gada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= AM skaits x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5 EUR/g C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/km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4843-03C9-4F2A-8A3D-E14B337BF250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inistru kabineta 2012.gada 2.okto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nstrukcija Nr.12  „Dienesta vieglo automobiļu iegādes un nomas kārtība”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inistrijām, citām centrālās valsts iestādēm un to padotībā esošajām iestādē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imāli pieļaujamais 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 izmešu līmenis automobiļi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2020.gadā 95 grami CO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 izmešu uz kilometru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14E3-DC31-4282-BA33-3B331033AA7E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Alternatīvo degvielu attīstības plān</a:t>
            </a: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 2017.-2020.gadam</a:t>
            </a: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” aktualizē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tījums par alternatīvo degvie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viešanas scenārijiem (PwC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TL uzlādes vietu izveides būvnormatīvu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strā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S jaunās direktīvas par ēku energoefektivitāti pārņemšana: minimālās prasības par ETL uzlādes vietām pie sabiedriskajām būvē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8B95-4006-43F2-8C24-1662E6358028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Apskatei: elektromobilis BMW i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C3B5-664A-4D1A-B0C2-336ED25EEF9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admin\Desktop\e MOBILITĀTES STENDS 2017\Foto Sixt\20171020_093812.jpg"/>
          <p:cNvPicPr/>
          <p:nvPr/>
        </p:nvPicPr>
        <p:blipFill>
          <a:blip r:embed="rId1"/>
          <a:stretch/>
        </p:blipFill>
        <p:spPr>
          <a:xfrm>
            <a:off x="1619280" y="1125360"/>
            <a:ext cx="4889520" cy="3667320"/>
          </a:xfrm>
          <a:prstGeom prst="rect">
            <a:avLst/>
          </a:prstGeom>
          <a:ln w="0">
            <a:noFill/>
          </a:ln>
        </p:spPr>
      </p:pic>
      <p:sp>
        <p:nvSpPr>
          <p:cNvPr id="119" name="Taisnstūris 5"/>
          <p:cNvSpPr/>
          <p:nvPr/>
        </p:nvSpPr>
        <p:spPr>
          <a:xfrm>
            <a:off x="5724360" y="5805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3440" indent="-5743440" algn="ctr"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nfo@bimab.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9640" y="480924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Foto: EM uzlādes vieta (divas sadzīves elektrorozetes) pie BT1, Starptautiskā izstāžu centra Ķīpsalā, Rīg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r AER izmantošanas veicināšanu (ar grozījumie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5.10.2015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.panta 4.punkta c) apakš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izmantoto zaļo elektroenerģiju AER izpildē ieskaita ar koeficientu “5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eficients “5” kompensē EM energoefektivitāti – enerģijas patēriņa samazināju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2F69-E551-4498-B998-09B53EA86D3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 17.panta 2.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kārtām, kas atradās ekspluatācij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5.gada 5. oktobrī vai pirms minētās diena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iodegvielām un bioloģiskajam šķidraj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urināmajam jāpanāk SEG emisiju ietaupīju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35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līdz 2017. gada 31. decembrim 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50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no 2018. gada 1. janvāra”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D13D-FE26-4EE2-90B8-C864D44A0BD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 17.panta 2.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EG samazinājums … 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60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attiecībā uz biodegvielām un bioloģisko šķidro kurināmo, ko ražo iekārtās, kuru ekspluatācija sākta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2015. gada 5. oktobra.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SEG &gt; CO</a:t>
            </a:r>
            <a:r>
              <a:rPr b="1" i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7F01-BD55-4AEB-9FF3-E1BCA4AB222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Citi transporta enerģijas kritēri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1.Energoefektivitā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2.SEG samazinājuma efek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VARAM izstrādā plānu 2021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.-2030.gad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3.Dzīvībai kaitīgo izmešu samazināju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Piem., bērnudārzi un skolas pie intensīvas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plūsmas ielā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84FC-020D-4A68-A951-17665FD3D422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Mērķi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Plānā: “biodegvielu izmantošanas pieaugums Zemgales reģionā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teiku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jaunīgās transporta enerģijas īpatsvara pieaugums Zemgales reģionā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1B82-5844-4A3F-9E7E-5C2383BD94D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Mērķi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emgales reģiona komersantu iesaistīšanās alternatīvo degvielu tirgū”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lādes pakalpojuma sniegšan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jaunīgās, ilgtspējas kritērijiem atbilstošas, transporta enerģijas ražoša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iodegviel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- zaļā elektroenerģij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fotoelektrisko paneļu ražoša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Lietuvā jau raž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19B6-F228-4BBD-A71C-096C53DDACA5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uzlāde – iespējas paplašinā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a saņemtā uzlādes strāva nedrīkst būt mainīga un svārstīga, jo pretējā gadījumā elektromobilis var automātiski atslēgties no uzlādes avota.” (Plāns, 37.lp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Uzlādes strāva var būt mainīga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tomātiska uzlādes jaudas vadī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bilstoši reālajā laikā pieejamajai elektroenerģijas jaudai pieslēguma viet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4972-9A87-44EE-A3C5-756258BFD3F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1:57:36Z</dcterms:created>
  <dc:creator>Arnis</dc:creator>
  <dc:description/>
  <dc:language>en-US</dc:language>
  <cp:lastModifiedBy>admin</cp:lastModifiedBy>
  <dcterms:modified xsi:type="dcterms:W3CDTF">2018-02-06T09:40:26Z</dcterms:modified>
  <cp:revision>780</cp:revision>
  <dc:subject/>
  <dc:title>Slide 1</dc:title>
</cp:coreProperties>
</file>