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BFD-866B-40B6-BDF1-9ABD77FE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85F-5F09-4A7A-B24F-8578E9DE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937-7E87-405B-A78B-D0499B5A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1D7F-4CF5-47C7-B43F-EF87DAFE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D4D-32A1-4E20-B68D-3967831D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020-00E0-4CD5-9A4D-BBFF0F0D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AB57-6A37-4822-9526-0F9B546B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17B-7EA8-4C49-8CE9-3122BB49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1E0-A221-4DAA-B9E7-9C0DDC61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EEF-FBDA-4B76-9D56-4DAEC575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3E9-EF57-455B-9B98-63437F92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F4A-8732-47D8-A2EC-36A2B9D7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Bezizmešu mobilitātes atbalsta biedrība: www.bimab.lv   E-transports: www.e-transport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717F-1DF2-4831-9909-FB8AEE2139F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todati.lv/El_uzl_tikls.pdf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info@bimab.l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451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Ieteikumi plāna projektam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„Alternatīvo degvielu/atjaunojamās enerģijas izmantošanas perspektīva transportā Zemgales reģionā”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 (Atj en transportaa_ZPR_v10-1)</a:t>
            </a:r>
            <a:br>
              <a:rPr sz="3200"/>
            </a:br>
            <a:br>
              <a:rPr sz="32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Arnis Bergs,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Bezizmešu mobilitātes atbalsta biedrības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(BIMAB)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valdes priekšsēdētā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552400" cy="1130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braukums (Plāns 39.l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pases datos – saskaņā 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D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ew European Driving Cycle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reālā nobraukuma koeficients Latvij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ā – k = 0,78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ā – k = 0,6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(pētījums “Latvijas nacionālā elektrotransportlīdzekļu uzlādes tīkla izveidošanas analīze”, 34.lp., </a:t>
            </a:r>
            <a:r>
              <a:rPr b="0" lang="lv-LV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utodati.lv/El_uzl_tikls.pdf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AM tradicionālo degvielu patēriņa koeficients: ?!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B778-79C2-4CA4-AA64-B356881A53B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ālā nobraucamā attāluma aprēķ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=75km/h , “ECO” režīms ieslēg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a (+15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50km (k = 0,66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a (-10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= 0,53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Nissan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9650-9C58-4C5A-A07A-F533FE2E746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vilces akumulat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iem ir ierobežots darba mūž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maiņa ir dārga, tāpēc otrreizējās pārdošanas iespējas var būt ierobežotas” (Plāns, 38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ilces akumulatoru garantij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atlikusī ietilpība 70 -75% no sākotnējā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braukums līdz 200 tūkst. km vai līdz 8 gadi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Benzīna un dīzeļa mazlitrāžas mo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garantijas laiks, resurss, nomaiņas izmaksas -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2E5A-00A9-448D-9D71-537B153A347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Uzlādes pieslēg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r vienfāžu 230 V rozete vai sienas uzlādes skapītis, kuri nodrošina uzlādi no 3,6 kW, 16 A, 230 V vienfāžu elektrotīkla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(Plāns, 39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uzlādes strā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dzīves rozete – līdz 10A (2,3kW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speciālos EM maiņstrāvas pieslēgumu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wall - box” vai citā konstruktīvā izpildījumā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z 3x32A (22kW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5A22-F4F5-4BA7-BE1F-3EBDAF0D940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Tes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grupā virs 31 kWh ietilps 25.6% no pētītajiem ETL. Tie pamatā ir Tesla ETL” (Plāns, 41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apkopes un remonts: k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VW e-Golf: 35,8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00 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FEDC-8F38-487A-B980-E7FE6EA9124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Ūdeņraža - elektriskie transportlīdz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Ūdeņraža transporta infrastruktūra (Plāns, 45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ģionu un pārrobežu sadarbīb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8.gadā Rīgā plānots uzstādīt ūdeņraža (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 uzpildes staciju. Publiski pieejamā 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pildes stacija Rīgā nodrošinā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starpvalst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ūdeņraža uzpildes staciju tīkl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FF15-CDC4-490A-ACE9-CCA30E909C0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u skaita trīskāršošana (36 elektromobili) līd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025. gadam.” (Plāns, 56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skaita pieaugums:  2015.gadā par 12%,  2016.g. – 16%,  2017.gadā – 29%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01.01.2018. reģistrēti kopā 325 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70 – Rīgā, 65 – Rīgai tuvākajās pašvaldībā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CSDD EVK daļas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C687-CFEB-429F-9FE4-F8D1879D79C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6532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adicionālo degvielu motoru automobiļu (AM) pieejamības ierobežojumi no 2025.ga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lstu atteikšanās no jauno AM reģistrācija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M ražotāju plāni par “elektrifikāciju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satiksme” vairs neiegādāsie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īzeļdegvielas autobus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Tehniskā universitāte pirks tik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ai hibrīd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3FBE-6C61-4925-AC62-1AE7AFAC943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P un Padomes 2009.gada 23.aprīļa regula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43/2009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emisiju prasība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jauniem vieglajiem A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ējo emisiju rādītājs līdz 95 g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/km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s jāpiemēro no 2020. gad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a par pārsniegšanu no 2019.gada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= AM skaits x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5 EUR/g C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km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552D-7E7D-4413-81BD-21569F592C0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u kabineta 2012.gada 2.okto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strukcija Nr.12  „Dienesta vieglo automobiļu iegādes un nomas kārtība”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ijām, citām centrālās valsts iestādēm un to padotībā esošajām iestādē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imāli pieļaujamais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 izmešu līmenis automobiļi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2020.gadā 95 grami C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 izmešu uz kilometr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944E-F051-454A-AA2B-C7649A58FA5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Alternatīvo degvielu attīstības plān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 2017.-2020.gadam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” aktualizē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tījums par alternatīvo degvie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viešanas scenārijiem (PwC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TL uzlādes vietu izveides būvnormatīvu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strā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S jaunās direktīvas par ēku energoefektivitāti pārņemšana: minimālās prasības par ETL uzlādes vietām pie sabiedriskajām būvē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7438-FA3B-4979-890B-336825672C8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Apskatei: elektromobilis BMW i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2089-8539-44E0-8095-76143D13A24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admin\Desktop\e MOBILITĀTES STENDS 2017\Foto Sixt\20171020_093812.jpg"/>
          <p:cNvPicPr/>
          <p:nvPr/>
        </p:nvPicPr>
        <p:blipFill>
          <a:blip r:embed="rId1"/>
          <a:stretch/>
        </p:blipFill>
        <p:spPr>
          <a:xfrm>
            <a:off x="1619280" y="1125360"/>
            <a:ext cx="4889520" cy="3667320"/>
          </a:xfrm>
          <a:prstGeom prst="rect">
            <a:avLst/>
          </a:prstGeom>
          <a:ln w="0">
            <a:noFill/>
          </a:ln>
        </p:spPr>
      </p:pic>
      <p:sp>
        <p:nvSpPr>
          <p:cNvPr id="119" name="Taisnstūris 5"/>
          <p:cNvSpPr/>
          <p:nvPr/>
        </p:nvSpPr>
        <p:spPr>
          <a:xfrm>
            <a:off x="5724360" y="5805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3440" indent="-5743440" algn="ctr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nfo@bimab.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9640" y="480924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Foto: EM uzlādes vieta (divas sadzīves elektrorozetes) pie BT1, Starptautiskā izstāžu centra Ķīpsalā, Rīg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r AER izmantošanas veicināšanu (ar grozījumi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5.10.2015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.panta 4.punkta c) apakš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izmantoto zaļo elektroenerģiju AER izpildē ieskaita ar koeficientu “5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eficients “5” kompensē EM energoefektivitāti – enerģijas patēriņa samazināju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213B-FDEE-462C-8DE9-3C277566E73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kārtām, kas atradās ekspluatācij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5.gada 5. oktobrī vai pirms minētās diena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ām un bioloģiskajam šķidraj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urināmajam jāpanāk SEG emisiju ietaupīju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35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līdz 2017. gada 31. decembrim 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5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no 2018. gada 1. janvāra”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F990-DF4A-4BEE-AD2E-F837F744D96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EG samazinājums … 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6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attiecībā uz biodegvielām un bioloģisko šķidro kurināmo, ko ražo iekārtās, kuru ekspluatācija sākta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2015. gada 5. oktobra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SEG &gt; CO</a:t>
            </a:r>
            <a:r>
              <a:rPr b="1" i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F291-7A15-4133-9888-3020F51278B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Citi transporta enerģijas kritēri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1.Energoefektivitā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2.SEG samazinājuma efek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VARAM izstrādā plānu 2021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.-2030.gad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3.Dzīvībai kaitīgo izmešu samazināju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iem., bērnudārzi un skolas pie intensīvas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lūsmas ielā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F051-553A-422D-82DA-269759DE775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lānā: “biodegvielu izmantošanas pieaugums Zemgales reģionā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teiku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 transporta enerģijas īpatsvara pieaugums Zemgales reģionā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CD04-18F3-433F-AB6E-BC276667F94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emgales reģiona komersantu iesaistīšanās alternatīvo degvielu tirgū”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lādes pakalpojuma sniegšan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, ilgtspējas kritērijiem atbilstošas, transporta enerģijas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- zaļā elektroenerģij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fotoelektrisko paneļu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Lietuvā jau raž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5850-5D6D-4C8A-99F9-5CA07C8FCCC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uzlāde – iespējas paplašinā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a saņemtā uzlādes strāva nedrīkst būt mainīga un svārstīga, jo pretējā gadījumā elektromobilis var automātiski atslēgties no uzlādes avota.” (Plāns, 37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Uzlādes strāva var būt mainīga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tomātiska uzlādes jaudas vadī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bilstoši reālajā laikā pieejamajai elektroenerģijas jaudai pieslēguma viet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CC29-A4DE-4B9A-81C7-D3D560C781F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7:36Z</dcterms:created>
  <dc:creator>Arnis</dc:creator>
  <dc:description/>
  <dc:language>en-US</dc:language>
  <cp:lastModifiedBy>admin</cp:lastModifiedBy>
  <dcterms:modified xsi:type="dcterms:W3CDTF">2018-02-06T09:40:26Z</dcterms:modified>
  <cp:revision>780</cp:revision>
  <dc:subject/>
  <dc:title>Slide 1</dc:title>
</cp:coreProperties>
</file>