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213C-D6D1-40D9-8D8B-DFF9FA1AE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DBCB-8DE2-475B-8A48-1EEC4018C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A008-AE36-4761-8267-C594FA8E7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F5BB-0614-4C23-BD4E-5D3B1C046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5815-CD35-4815-80B8-660759BEA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5877-676F-4BCE-8FAD-4B720947E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4756-0938-43DD-8496-F834CFC74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4665-F568-4632-A12D-3ABE6A103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5AD9-C16E-4108-9097-C7A61D5A0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0437-8034-47BD-95C2-17774A47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2097-EAB1-40A2-BEDF-EE5108C47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43BF-AB07-4E29-88FB-A7844D007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Bezizmešu mobilitātes atbalsta biedrība: www.bimab.lv   E-transports: www.e-transports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4.gada 17.jūnij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B6F54-BD15-4389-8DDB-E307AC66FB6C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autodati.lv/El_uzl_tikls.pdf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info@bimab.lv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844280"/>
            <a:ext cx="7772400" cy="451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lv-LV" sz="3200" spc="-1" strike="noStrike">
                <a:solidFill>
                  <a:srgbClr val="984807"/>
                </a:solidFill>
                <a:latin typeface="Calibri"/>
              </a:rPr>
              <a:t>Ieteikumi plāna projektam</a:t>
            </a:r>
            <a:br>
              <a:rPr sz="3200"/>
            </a:br>
            <a:r>
              <a:rPr b="1" lang="lv-LV" sz="3200" spc="-1" strike="noStrike">
                <a:solidFill>
                  <a:srgbClr val="984807"/>
                </a:solidFill>
                <a:latin typeface="Calibri"/>
              </a:rPr>
              <a:t>„Alternatīvo degvielu/atjaunojamās enerģijas izmantošanas perspektīva transportā Zemgales reģionā”</a:t>
            </a:r>
            <a:br>
              <a:rPr sz="3200"/>
            </a:br>
            <a:r>
              <a:rPr b="1" lang="lv-LV" sz="3200" spc="-1" strike="noStrike">
                <a:solidFill>
                  <a:srgbClr val="984807"/>
                </a:solidFill>
                <a:latin typeface="Calibri"/>
              </a:rPr>
              <a:t> (Atj en transportaa_ZPR_v10-1)</a:t>
            </a:r>
            <a:br>
              <a:rPr sz="3200"/>
            </a:br>
            <a:br>
              <a:rPr sz="3200"/>
            </a:b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Arnis Bergs, </a:t>
            </a:r>
            <a:br>
              <a:rPr sz="2000"/>
            </a:b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Bezizmešu mobilitātes atbalsta biedrības</a:t>
            </a:r>
            <a:br>
              <a:rPr sz="2000"/>
            </a:b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 (BIMAB)</a:t>
            </a:r>
            <a:br>
              <a:rPr sz="2000"/>
            </a:b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valdes priekšsēdētāj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5" descr=""/>
          <p:cNvPicPr/>
          <p:nvPr/>
        </p:nvPicPr>
        <p:blipFill>
          <a:blip r:embed="rId1"/>
          <a:stretch/>
        </p:blipFill>
        <p:spPr>
          <a:xfrm>
            <a:off x="3059280" y="692280"/>
            <a:ext cx="2552400" cy="113004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Elektromobiļu autonomija</a:t>
            </a:r>
            <a:br>
              <a:rPr sz="4400"/>
            </a:b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(nobraukums līdz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Nobraukums (Plāns 39.lp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M pases datos – saskaņā ar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DC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New European Driving Cycle)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M reālā nobraukuma koeficients Latvijā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asarā – k = 0,781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ziemā – k = 0,61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(pētījums “Latvijas nacionālā elektrotransportlīdzekļu uzlādes tīkla izveidošanas analīze”, 34.lp., </a:t>
            </a:r>
            <a:r>
              <a:rPr b="0" lang="lv-LV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autodati.lv/El_uzl_tikls.pdf</a:t>
            </a: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00"/>
                </a:solidFill>
                <a:uFillTx/>
                <a:latin typeface="Calibri"/>
              </a:rPr>
              <a:t>AM tradicionālo degvielu patēriņa koeficients: ?!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A8A4E-9208-42DF-BC1F-B505DA26E87F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Elektromobiļu autonomija</a:t>
            </a:r>
            <a:br>
              <a:rPr sz="4400"/>
            </a:b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(nobraukums līdz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Jaunais Nissan Leaf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0 kWh, 378  km (NEDC)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Reālā nobraucamā attāluma aprēķi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=75km/h , “ECO” režīms ieslēg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asara (+15</a:t>
            </a:r>
            <a:r>
              <a:rPr b="0" lang="lv-LV" sz="32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C) - 250km (k = 0,66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ziema (-10</a:t>
            </a:r>
            <a:r>
              <a:rPr b="0" lang="lv-LV" sz="32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C) - 20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m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 = 0,53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(Nissan dat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DA21F-4D80-4353-91B7-D2D9C3EF6C66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Elektromobiļu vilces akumulato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30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Akumulatoriem ir ierobežots darba mūž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Akumulatoru maiņa ir dārga, tāpēc otrreizējās pārdošanas iespējas var būt ierobežotas” (Plāns, 38.lp.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M vilces akumulatoru garantija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(atlikusī ietilpība 70 -75% no sākotnējā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braukums līdz 200 tūkst. km vai līdz 8 gadi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Benzīna un dīzeļa mazlitrāžas motor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garantijas laiks, resurss, nomaiņas izmaksas - ?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4.gada 17.jūnij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F82FA-5E3C-4958-8222-21DBC098B1C1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Uzlādes pieslēgum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“…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ir vienfāžu 230 V rozete vai sienas uzlādes skapītis, kuri nodrošina uzlādi no 3,6 kW, 16 A, 230 V vienfāžu elektrotīkla.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(Plāns, 39.lp.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lektromobiļa uzlādes strāv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adzīves rozete – līdz 10A (2,3kW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zmantojot </a:t>
            </a: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speciālos EM maiņstrāvas pieslēgumus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wall - box” vai citā konstruktīvā izpildījumā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līdz 3x32A (22kW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54BE4-9002-4DCE-A216-BF7B42FED6AD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Tes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Akumulatoru grupā virs 31 kWh ietilps 25.6% no pētītajiem ETL. Tie pamatā ir Tesla ETL” (Plāns, 41.lp.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lektromobiļa apkopes un remonts: ku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Jaunais VW e-Golf: 35,8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Wh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300 km (NEDC)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Jaunais Nissan Leaf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0 kWh, 378  km (NEDC)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C73D2-E3F9-4063-9842-E57F6AEABD9C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Ūdeņraža - elektriskie transportlīdzekļ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Ūdeņraža transporta infrastruktūra (Plāns, 45.lp.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Reģionu un pārrobežu sadarbīb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2018.gadā Rīgā plānots uzstādīt ūdeņraža (H</a:t>
            </a:r>
            <a:r>
              <a:rPr b="0" lang="lv-LV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) uzpildes staciju. Publiski pieejamā H</a:t>
            </a:r>
            <a:r>
              <a:rPr b="0" lang="lv-LV" sz="32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uzpildes stacija Rīgā nodrošinās </a:t>
            </a:r>
            <a:r>
              <a:rPr b="0" lang="lv-LV" sz="3200" spc="-1" strike="noStrike" u="sng">
                <a:solidFill>
                  <a:srgbClr val="000000"/>
                </a:solidFill>
                <a:uFillTx/>
                <a:latin typeface="Calibri"/>
              </a:rPr>
              <a:t>starpvalstu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ūdeņraža uzpildes staciju tīkl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9F3A1-7F6B-4E67-B855-5D828A5E7E9A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Elektromobiļu ska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0760" indent="-320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Elektromobiļu skaita trīskāršošana (36 elektromobili) līdz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2025. gadam.” (Plāns, 56.lp.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M skaita pieaugums:  2015.gadā par 12%,  2016.g. – 16%,  2017.gadā – 29%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Uz 01.01.2018. reģistrēti kopā 325 EM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170 – Rīgā, 65 – Rīgai tuvākajās pašvaldībā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(CSDD EVK daļas dat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E0AC5-EFE3-40FC-8AC9-6418CCB72B36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Elektromobiļu ska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165320"/>
            <a:ext cx="82296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30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radicionālo degvielu motoru automobiļu (AM) pieejamības ierobežojumi no 2025.gad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alstu atteikšanās no jauno AM reģistrācijas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M ražotāju plāni par “elektrifikāciju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Rīgas satiksme” vairs neiegādāsies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īzeļdegvielas autobusu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Rīgas Tehniskā universitāte pirks tika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M vai hibrīdu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2A7DF-C2A5-4E82-B983-FCADF33E5306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Elektromobiļu ska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P un Padomes 2009.gada 23.aprīļa regula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443/2009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lv-LV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emisiju prasības </a:t>
            </a:r>
            <a:r>
              <a:rPr b="0" lang="lv-LV" sz="3200" spc="-1" strike="noStrike" u="sng">
                <a:solidFill>
                  <a:srgbClr val="000000"/>
                </a:solidFill>
                <a:uFillTx/>
                <a:latin typeface="Calibri"/>
              </a:rPr>
              <a:t>jauniem vieglajiem AM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idējo emisiju rādītājs līdz 95 g CO</a:t>
            </a:r>
            <a:r>
              <a:rPr b="0" lang="lv-LV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/km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as jāpiemēro no 2020. gada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ksa par pārsniegšanu no 2019.gada =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= AM skaits x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95 EUR/g C</a:t>
            </a: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lv-LV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/km</a:t>
            </a: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5A67B-CFB8-465E-909F-E225AE8C3C71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Elektromobiļu ska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inistru kabineta 2012.gada 2.oktob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nstrukcija Nr.12  „Dienesta vieglo automobiļu iegādes un nomas kārtība”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inistrijām, citām centrālās valsts iestādēm un to padotībā esošajām iestādē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ksimāli pieļaujamais CO</a:t>
            </a:r>
            <a:r>
              <a:rPr b="0" lang="lv-LV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 izmešu līmenis automobiļie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2020.gadā 95 grami CO</a:t>
            </a:r>
            <a:r>
              <a:rPr b="1" lang="lv-LV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 izmešu uz kilometru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29EC2-438A-454F-BCFE-C60F748E42A7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984807"/>
                </a:solidFill>
                <a:latin typeface="Calibri"/>
              </a:rPr>
              <a:t>“</a:t>
            </a:r>
            <a:r>
              <a:rPr b="0" lang="en-US" sz="4000" spc="-1" strike="noStrike">
                <a:solidFill>
                  <a:srgbClr val="984807"/>
                </a:solidFill>
                <a:latin typeface="Calibri"/>
              </a:rPr>
              <a:t>Alternatīvo degvielu attīstības plān</a:t>
            </a:r>
            <a:r>
              <a:rPr b="0" lang="lv-LV" sz="4000" spc="-1" strike="noStrike">
                <a:solidFill>
                  <a:srgbClr val="984807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984807"/>
                </a:solidFill>
                <a:latin typeface="Calibri"/>
              </a:rPr>
              <a:t> 2017.-2020.gadam</a:t>
            </a:r>
            <a:r>
              <a:rPr b="0" lang="lv-LV" sz="4000" spc="-1" strike="noStrike">
                <a:solidFill>
                  <a:srgbClr val="984807"/>
                </a:solidFill>
                <a:latin typeface="Calibri"/>
              </a:rPr>
              <a:t>” aktualizēšan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ētījums par alternatīvo degviel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eviešanas scenārijiem (PwC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TL uzlādes vietu izveides būvnormatīvu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zstrā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S jaunās direktīvas par ēku energoefektivitāti pārņemšana: minimālās prasības par ETL uzlādes vietām pie sabiedriskajām būvē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B0C0E-1BAE-4248-858E-2457CDE8FD1B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Apskatei: elektromobilis BMW i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ADFBC-41E0-4B88-BB87-8C2AFDE1825D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C:\Users\admin\Desktop\e MOBILITĀTES STENDS 2017\Foto Sixt\20171020_093812.jpg"/>
          <p:cNvPicPr/>
          <p:nvPr/>
        </p:nvPicPr>
        <p:blipFill>
          <a:blip r:embed="rId1"/>
          <a:stretch/>
        </p:blipFill>
        <p:spPr>
          <a:xfrm>
            <a:off x="1619280" y="1125360"/>
            <a:ext cx="4889520" cy="3667320"/>
          </a:xfrm>
          <a:prstGeom prst="rect">
            <a:avLst/>
          </a:prstGeom>
          <a:ln w="0">
            <a:noFill/>
          </a:ln>
        </p:spPr>
      </p:pic>
      <p:sp>
        <p:nvSpPr>
          <p:cNvPr id="119" name="Taisnstūris 5"/>
          <p:cNvSpPr/>
          <p:nvPr/>
        </p:nvSpPr>
        <p:spPr>
          <a:xfrm>
            <a:off x="5724360" y="580536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43440" indent="-5743440" algn="ctr">
              <a:tabLst>
                <a:tab algn="l" pos="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info@bimab.l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539640" y="4809240"/>
            <a:ext cx="80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Calibri"/>
              </a:rPr>
              <a:t>Foto: EM uzlādes vieta (divas sadzīves elektrorozetes) pie BT1, Starptautiskā izstāžu centra Ķīpsalā, Rīg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AER transporta enerģi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6120" indent="-276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irektīva 2009/28/E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ar AER izmantošanas veicināšanu (ar grozījumiem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5.10.2015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6120" indent="-276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3.panta 4.punkta c) apakšpunk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6120" indent="-276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M izmantoto zaļo elektroenerģiju AER izpildē ieskaita ar koeficientu “5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6120" indent="-276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6120" indent="-276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oeficients “5” kompensē EM energoefektivitāti – enerģijas patēriņa samazinājum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6120" indent="-276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C117B-3A20-461F-903F-776CF5803EC0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AER transporta enerģi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-3276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irektīva 2009/28/EK 17.panta 2.punk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“…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ekārtām, kas atradās ekspluatācijā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2015.gada 5. oktobrī vai pirms minētās dienas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biodegvielām un bioloģiskajam šķidraj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urināmajam jāpanāk SEG emisiju ietaupīju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ismaz </a:t>
            </a: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35 %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līdz 2017. gada 31. decembrim u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ismaz </a:t>
            </a: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50 %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no 2018. gada 1. janvāra”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F8551-0A7C-4487-8F9E-5241A34AFCC8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AER transporta enerģi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irektīva 2009/28/EK 17.panta 2.punk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EG samazinājums … vismaz </a:t>
            </a: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60 %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attiecībā uz biodegvielām un bioloģisko šķidro kurināmo, ko ražo iekārtās, kuru ekspluatācija sākta</a:t>
            </a:r>
            <a:br>
              <a:rPr sz="3200"/>
            </a:b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ēc 2015. gada 5. oktobra.”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200" spc="-1" strike="noStrike">
                <a:solidFill>
                  <a:srgbClr val="000000"/>
                </a:solidFill>
                <a:latin typeface="Calibri"/>
              </a:rPr>
              <a:t>SEG &gt; CO</a:t>
            </a:r>
            <a:r>
              <a:rPr b="1" i="1" lang="lv-LV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05FE9-D57D-422E-AF25-CF7473F010AE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Citi transporta enerģijas kritērij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1.Energoefektivitā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2.SEG samazinājuma efek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VARAM izstrādā plānu 2021</a:t>
            </a:r>
            <a:r>
              <a:rPr b="1" i="1" lang="lv-LV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.-2030.gada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3.Dzīvībai kaitīgo izmešu samazināju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Piem., bērnudārzi un skolas pie intensīvas 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plūsmas ielā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A1DB6-02E8-4E09-AF24-D5D3C33B3D4F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Mērķis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99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Plānā: “biodegvielu izmantošanas pieaugums Zemgales reģionā.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eteiku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tjaunīgās transporta enerģijas īpatsvara pieaugums Zemgales reģionā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B61D8-4DE1-4A93-A5FA-57CF2D34269F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Mērķis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Zemgales reģiona komersantu iesaistīšanās alternatīvo degvielu tirgū”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uzlādes pakalpojuma sniegšana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tjaunīgās, ilgtspējas kritērijiem atbilstošas, transporta enerģijas ražošan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biodegviela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- zaļā elektroenerģija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fotoelektrisko paneļu ražošan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Lietuvā jau raž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B3AF9-B79D-4589-930C-017B590CB0B6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Elektromobiļu uzlāde – iespējas paplašinā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“…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elektromobiļa saņemtā uzlādes strāva nedrīkst būt mainīga un svārstīga, jo pretējā gadījumā elektromobilis var automātiski atslēgties no uzlādes avota.” (Plāns, 37.lp.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Uzlādes strāva var būt mainīga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utomātiska uzlādes jaudas vadīb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tbilstoši reālajā laikā pieejamajai elektroenerģijas jaudai pieslēguma viet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07BC5-03B4-42CF-9B39-FE8998B47AB6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8T11:57:36Z</dcterms:created>
  <dc:creator>Arnis</dc:creator>
  <dc:description/>
  <dc:language>en-US</dc:language>
  <cp:lastModifiedBy>admin</cp:lastModifiedBy>
  <dcterms:modified xsi:type="dcterms:W3CDTF">2018-02-06T09:40:26Z</dcterms:modified>
  <cp:revision>780</cp:revision>
  <dc:subject/>
  <dc:title>Slide 1</dc:title>
</cp:coreProperties>
</file>