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15F0-FA50-4363-ACDA-711352E8BA7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on project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in project writing and planning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to find appropriate programme for each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with partner 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aking LP respon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Representing all municipalities in “soft”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Organizing seminars about EU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Writing projec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B23A-96B7-4127-8E18-B5FF3CB5E0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9FF1-D50B-4646-99B0-4AE586FB61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642-7A76-4B20-8367-79862DB7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26F-0A62-4BCD-BFC2-7A2628A9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4CE-83A4-4B01-A6BC-A381A59F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A78-AB6A-4B84-906A-8AAEB95B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49A-AAC2-4088-B723-929174A5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0B8-4AA8-455B-BF35-AC49A9C8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74D-E6D8-4E52-873C-9DFC5CB2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440-1B95-4939-B4F2-C8363674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EA6-D1CB-4E56-A7E3-D28E17C3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72D-D672-48FB-B959-574995B7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623-EA27-4D76-A347-141D83BA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0A3-D731-4C3E-BEBD-D06146EF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74C0-3F40-4C10-9310-5F9DE0BFBA2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jvmm.lv/index.php?id=56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ēls 6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33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5133600"/>
            <a:ext cx="7323120" cy="17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alibri"/>
              </a:rPr>
              <a:t>Zemgales plānošanas reģions </a:t>
            </a:r>
            <a:br>
              <a:rPr sz="4800"/>
            </a:br>
            <a:r>
              <a:rPr b="1" lang="lv-LV" sz="4800" spc="-1" strike="noStrike">
                <a:solidFill>
                  <a:srgbClr val="000000"/>
                </a:solidFill>
                <a:latin typeface="Calibri"/>
              </a:rPr>
              <a:t>Attīstības plānoša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51640" y="4992480"/>
            <a:ext cx="2984400" cy="95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2"/>
          <p:cNvGrpSpPr/>
          <p:nvPr/>
        </p:nvGrpSpPr>
        <p:grpSpPr>
          <a:xfrm>
            <a:off x="7205760" y="5110200"/>
            <a:ext cx="2093760" cy="1479600"/>
            <a:chOff x="7205760" y="5110200"/>
            <a:chExt cx="2093760" cy="1479600"/>
          </a:xfrm>
        </p:grpSpPr>
        <p:grpSp>
          <p:nvGrpSpPr>
            <p:cNvPr id="52" name="Rounded Rectangle 4"/>
            <p:cNvGrpSpPr/>
            <p:nvPr/>
          </p:nvGrpSpPr>
          <p:grpSpPr>
            <a:xfrm>
              <a:off x="7205760" y="5110200"/>
              <a:ext cx="2093760" cy="1479600"/>
              <a:chOff x="7205760" y="5110200"/>
              <a:chExt cx="2093760" cy="1479600"/>
            </a:xfrm>
          </p:grpSpPr>
          <p:pic>
            <p:nvPicPr>
              <p:cNvPr id="53" name="Rounded 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205760" y="5110200"/>
                <a:ext cx="2093760" cy="147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7289280" y="5194800"/>
                <a:ext cx="19242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" name="Picture 2" descr=""/>
            <p:cNvPicPr/>
            <p:nvPr/>
          </p:nvPicPr>
          <p:blipFill>
            <a:blip r:embed="rId3"/>
            <a:stretch/>
          </p:blipFill>
          <p:spPr>
            <a:xfrm>
              <a:off x="7729920" y="5284080"/>
              <a:ext cx="1042560" cy="113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sistēma Latvij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atura vietturis 3" descr=""/>
          <p:cNvPicPr/>
          <p:nvPr/>
        </p:nvPicPr>
        <p:blipFill>
          <a:blip r:embed="rId1"/>
          <a:srcRect l="0" t="0" r="9053" b="8613"/>
          <a:stretch/>
        </p:blipFill>
        <p:spPr>
          <a:xfrm>
            <a:off x="457200" y="1266840"/>
            <a:ext cx="836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reģiona loma reģionālajā plānošanā un attīstīb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176040" y="1127160"/>
            <a:ext cx="83584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plānošanas reģiona plānošanas dokumen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Diagram 4" descr=""/>
          <p:cNvPicPr/>
          <p:nvPr/>
        </p:nvPicPr>
        <p:blipFill>
          <a:blip r:embed="rId1"/>
          <a:stretch/>
        </p:blipFill>
        <p:spPr>
          <a:xfrm>
            <a:off x="128520" y="1487520"/>
            <a:ext cx="90280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VIDĒJA 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PRIORITĀTES 20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reģions ar attīstītu bioekonomiku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n uz vietējiem resursiem balstītu lauku saimniekošanu. Zemgale – intensīvās lauksaimniecības un ekosaimniekošanas „sadzīvošanas” model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s nacionālas un reģionālas nozīmes pilsēta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reģiona rūpniecības un pakalpojumu centri, kas dod attīstības starojumu lauku teritorijā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pdzīvoti Zemgales lauku apvidi,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kur attīstās mazā uzņēmējdarbīb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ir saglabāta tradicionālā dzīves vide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- izglītības, zinātnes un inovāciju reģion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r Latvijas lauksaimniecības universitāti kā intelektuālo potenciālu lauku attīstībai un spēcīgām profesionālās izglītības iespējām reģionam nozīmīgās kompetencē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6+2: ZEMGALES VIDĒJA TERMIŅA ATTĪSTĪBAS PRIORITĀ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Vidēja termiņa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Uzņēmējdarbībai pievilcīga vide – bāze inovācijām ilgtermiņ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lastīga izglītība mūža garum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3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transporta sistēma reģiona ārējai un iekšējai sasniedzamīb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4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des un dabas resursu ilgtspējīga apsaimniekošana un attīst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5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pakalpojumu sistē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6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Zemgales kultūrvide un identitāte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rizontālās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Apdzīvotības saglabāšana – kopienas un dzīves telpas ilgtspēja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eda pārvald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9640" y="1417680"/>
            <a:ext cx="81439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ņēmējdarbības veicināšana, inovācij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ūrisms, kultūra un amatniec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ides aizsardzība un da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zglīt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nergoefektivitāte un atjaunojamie energoresursi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Sociālie pakalpoju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Kapacitātes stiprināšana un reģionālā plānoš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ranspor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ziedz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396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dokumentu ieviešana – projektu īsteno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Inese G\Desktop\DSC01449.JPG"/>
          <p:cNvPicPr/>
          <p:nvPr/>
        </p:nvPicPr>
        <p:blipFill>
          <a:blip r:embed="rId1"/>
          <a:stretch/>
        </p:blipFill>
        <p:spPr>
          <a:xfrm>
            <a:off x="6973920" y="332280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user\Desktop\atri\Nap\DSC_0794.jpg"/>
          <p:cNvPicPr/>
          <p:nvPr/>
        </p:nvPicPr>
        <p:blipFill>
          <a:blip r:embed="rId2"/>
          <a:stretch/>
        </p:blipFill>
        <p:spPr>
          <a:xfrm>
            <a:off x="6516720" y="1925640"/>
            <a:ext cx="2401920" cy="12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user\Documents\DaceV\Projekti\Vides_projekts_2009\bildes\Foto_infrastruktra\Krustpils_infra\DSC_6074.JPG"/>
          <p:cNvPicPr/>
          <p:nvPr/>
        </p:nvPicPr>
        <p:blipFill>
          <a:blip r:embed="rId3"/>
          <a:stretch/>
        </p:blipFill>
        <p:spPr>
          <a:xfrm>
            <a:off x="7510320" y="4761000"/>
            <a:ext cx="1408320" cy="168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sad_56_EKA111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34160" y="4870440"/>
            <a:ext cx="167616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4" descr=""/>
          <p:cNvPicPr/>
          <p:nvPr/>
        </p:nvPicPr>
        <p:blipFill>
          <a:blip r:embed="rId6"/>
          <a:stretch/>
        </p:blipFill>
        <p:spPr>
          <a:xfrm>
            <a:off x="4133880" y="4870440"/>
            <a:ext cx="1700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57:04Z</dcterms:created>
  <dc:creator>user</dc:creator>
  <dc:description/>
  <dc:language>en-US</dc:language>
  <cp:lastModifiedBy>Lietotajs1</cp:lastModifiedBy>
  <dcterms:modified xsi:type="dcterms:W3CDTF">2018-02-07T07:08:38Z</dcterms:modified>
  <cp:revision>14</cp:revision>
  <dc:subject/>
  <dc:title>Piesaistītais finansējums (LVL)</dc:title>
</cp:coreProperties>
</file>