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69572-28EB-4C80-876F-548DC66A7FC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Consultation on project implem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Consultation in project writing and planning ph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Helping to find appropriate programme for each id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Helping with partner sear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Taking LP responsibi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Representing all municipalities in “soft” proj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Organizing seminars about EU program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Writing projects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035EE-1912-4E7F-A40D-D348D4276A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5FCDA-5285-4489-9836-DDAE12B8C9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0D76-B545-49C4-8DEF-C6EA3BAC3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1474-9D5D-41FF-BAC7-A50440C86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EF89-2D57-4C76-B163-C9C89D52C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8E3D-0FAB-4305-8B48-23B3E011A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B3D9-E909-4B13-9DFB-ABA91EA90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475B-364D-4170-8F53-0E8A89CD5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0004-A672-4A43-B3A3-A342949FD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B3AF-1D74-4D16-8C53-EB4757DDC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AD3B-90E1-42AB-AFB5-3DC68E4CF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7D5A-1EC2-4BBA-A591-5069F2AF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5D1F-6501-4C20-B8CD-F69676BB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EA1A-FFD0-4435-964F-4D989CC1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3E365-6647-48DA-A2E2-43B0D3FF42C8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hyperlink" Target="http://www.jvmm.lv/index.php?id=56" TargetMode="External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Attēls 6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5133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5133600"/>
            <a:ext cx="7323120" cy="17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alibri"/>
              </a:rPr>
              <a:t>Zemgales plānošanas reģions </a:t>
            </a:r>
            <a:br>
              <a:rPr sz="4800"/>
            </a:br>
            <a:r>
              <a:rPr b="1" lang="lv-LV" sz="4800" spc="-1" strike="noStrike">
                <a:solidFill>
                  <a:srgbClr val="000000"/>
                </a:solidFill>
                <a:latin typeface="Calibri"/>
              </a:rPr>
              <a:t>Attīstības plānošan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51640" y="4992480"/>
            <a:ext cx="2984400" cy="95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" name="Group 2"/>
          <p:cNvGrpSpPr/>
          <p:nvPr/>
        </p:nvGrpSpPr>
        <p:grpSpPr>
          <a:xfrm>
            <a:off x="7205760" y="5110200"/>
            <a:ext cx="2093760" cy="1479600"/>
            <a:chOff x="7205760" y="5110200"/>
            <a:chExt cx="2093760" cy="1479600"/>
          </a:xfrm>
        </p:grpSpPr>
        <p:grpSp>
          <p:nvGrpSpPr>
            <p:cNvPr id="52" name="Rounded Rectangle 4"/>
            <p:cNvGrpSpPr/>
            <p:nvPr/>
          </p:nvGrpSpPr>
          <p:grpSpPr>
            <a:xfrm>
              <a:off x="7205760" y="5110200"/>
              <a:ext cx="2093760" cy="1479600"/>
              <a:chOff x="7205760" y="5110200"/>
              <a:chExt cx="2093760" cy="1479600"/>
            </a:xfrm>
          </p:grpSpPr>
          <p:pic>
            <p:nvPicPr>
              <p:cNvPr id="53" name="Rounded Rectangle 4" descr=""/>
              <p:cNvPicPr/>
              <p:nvPr/>
            </p:nvPicPr>
            <p:blipFill>
              <a:blip r:embed="rId2"/>
              <a:stretch/>
            </p:blipFill>
            <p:spPr>
              <a:xfrm>
                <a:off x="7205760" y="5110200"/>
                <a:ext cx="2093760" cy="1479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>
                <a:off x="7289280" y="5194800"/>
                <a:ext cx="1924200" cy="131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5" name="Picture 2" descr=""/>
            <p:cNvPicPr/>
            <p:nvPr/>
          </p:nvPicPr>
          <p:blipFill>
            <a:blip r:embed="rId3"/>
            <a:stretch/>
          </p:blipFill>
          <p:spPr>
            <a:xfrm>
              <a:off x="7729920" y="5284080"/>
              <a:ext cx="1042560" cy="113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Calibri"/>
              </a:rPr>
              <a:t>Plānošanas sistēma Latvij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Satura vietturis 3" descr=""/>
          <p:cNvPicPr/>
          <p:nvPr/>
        </p:nvPicPr>
        <p:blipFill>
          <a:blip r:embed="rId1"/>
          <a:srcRect l="0" t="0" r="9053" b="8613"/>
          <a:stretch/>
        </p:blipFill>
        <p:spPr>
          <a:xfrm>
            <a:off x="457200" y="1266840"/>
            <a:ext cx="83628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27800" cy="12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Calibri"/>
              </a:rPr>
              <a:t>Zemgales reģiona loma reģionālajā plānošanā un attīstīb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Content Placeholder 3" descr=""/>
          <p:cNvPicPr/>
          <p:nvPr/>
        </p:nvPicPr>
        <p:blipFill>
          <a:blip r:embed="rId1"/>
          <a:stretch/>
        </p:blipFill>
        <p:spPr>
          <a:xfrm>
            <a:off x="176040" y="1127160"/>
            <a:ext cx="8358480" cy="53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Calibri"/>
              </a:rPr>
              <a:t>Zemgales plānošanas reģiona plānošanas dokument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Diagram 4" descr=""/>
          <p:cNvPicPr/>
          <p:nvPr/>
        </p:nvPicPr>
        <p:blipFill>
          <a:blip r:embed="rId1"/>
          <a:stretch/>
        </p:blipFill>
        <p:spPr>
          <a:xfrm>
            <a:off x="128520" y="1487520"/>
            <a:ext cx="902808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Calibri"/>
              </a:rPr>
              <a:t>ZEMGALES ILGTERMIŅA ATTĪSTĪBAS STRATĒĢISKĀ STRUKTŪ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Content Placeholder 3" descr=""/>
          <p:cNvPicPr/>
          <p:nvPr/>
        </p:nvPicPr>
        <p:blipFill>
          <a:blip r:embed="rId1"/>
          <a:stretch/>
        </p:blipFill>
        <p:spPr>
          <a:xfrm>
            <a:off x="457200" y="1590840"/>
            <a:ext cx="7620120" cy="48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Calibri"/>
              </a:rPr>
              <a:t>ZEMGALES VIDĒJA TERMIŅA ATTĪSTĪBAS STRATĒĢISKĀ STRUKTŪ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Content Placeholder 3" descr=""/>
          <p:cNvPicPr/>
          <p:nvPr/>
        </p:nvPicPr>
        <p:blipFill>
          <a:blip r:embed="rId1"/>
          <a:stretch/>
        </p:blipFill>
        <p:spPr>
          <a:xfrm>
            <a:off x="457200" y="1590840"/>
            <a:ext cx="7620120" cy="48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Calibri"/>
              </a:rPr>
              <a:t>ZEMGALES ILGTERMIŅA ATTĪSTĪBAS PRIORITĀTES 203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94c6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Zemgale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reģions ar attīstītu bioekonomiku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un uz vietējiem resursiem balstītu lauku saimniekošanu. Zemgale – intensīvās lauksaimniecības un ekosaimniekošanas „sadzīvošanas” model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94c6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Zemgales nacionālas un reģionālas nozīmes pilsētas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– reģiona rūpniecības un pakalpojumu centri, kas dod attīstības starojumu lauku teritorijā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94c6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Apdzīvoti Zemgales lauku apvidi,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kur attīstās mazā uzņēmējdarbība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un ir saglabāta tradicionālā dzīves vide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94c6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Zemgale - izglītības, zinātnes un inovāciju reģions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ar Latvijas lauksaimniecības universitāti kā intelektuālo potenciālu lauku attīstībai un spēcīgām profesionālās izglītības iespējām reģionam nozīmīgās kompetencē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Calibri"/>
              </a:rPr>
              <a:t>6+2: ZEMGALES VIDĒJA TERMIŅA ATTĪSTĪBAS PRIORITĀT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Vidēja termiņa prioritātes: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P1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 Uzņēmējdarbībai pievilcīga vide – bāze inovācijām ilgtermiņā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P2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 Elastīga izglītība mūža garum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P3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 Efektīva transporta sistēma reģiona ārējai un iekšējai sasniedzamība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P4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 Vides un dabas resursu ilgtspējīga apsaimniekošana un attīstīb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P5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 Efektīva pakalpojumu sistē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P6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Zemgales kultūrvide un identitāte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Horizontālās prioritātes: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HP1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 Apdzīvotības saglabāšana – kopienas un dzīves telpas ilgtspēja 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HP2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 Vieda pārvaldīb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539640" y="1417680"/>
            <a:ext cx="8143920" cy="50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Uzņēmējdarbības veicināšana, inovācija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Tūrisms, kultūra un amatniecīb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Vides aizsardzība un dab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Izglītīb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Energoefektivitāte un atjaunojamie energoresursi (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Sociālie pakalpojum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Kapacitātes stiprināšana un reģionālā plānošan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Transpor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Noziedzīb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396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Calibri"/>
              </a:rPr>
              <a:t>Plānošanas dokumentu ieviešana – projektu īstenošan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C:\Users\Inese G\Desktop\DSC01449.JPG"/>
          <p:cNvPicPr/>
          <p:nvPr/>
        </p:nvPicPr>
        <p:blipFill>
          <a:blip r:embed="rId1"/>
          <a:stretch/>
        </p:blipFill>
        <p:spPr>
          <a:xfrm>
            <a:off x="6973920" y="3322800"/>
            <a:ext cx="1914480" cy="1438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C:\Users\user\Desktop\atri\Nap\DSC_0794.jpg"/>
          <p:cNvPicPr/>
          <p:nvPr/>
        </p:nvPicPr>
        <p:blipFill>
          <a:blip r:embed="rId2"/>
          <a:stretch/>
        </p:blipFill>
        <p:spPr>
          <a:xfrm>
            <a:off x="6516720" y="1925640"/>
            <a:ext cx="2401920" cy="1287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C:\Users\user\Documents\DaceV\Projekti\Vides_projekts_2009\bildes\Foto_infrastruktra\Krustpils_infra\DSC_6074.JPG"/>
          <p:cNvPicPr/>
          <p:nvPr/>
        </p:nvPicPr>
        <p:blipFill>
          <a:blip r:embed="rId3"/>
          <a:stretch/>
        </p:blipFill>
        <p:spPr>
          <a:xfrm>
            <a:off x="7510320" y="4761000"/>
            <a:ext cx="1408320" cy="1689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4" descr="sad_56_EKA1112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834160" y="4870440"/>
            <a:ext cx="1676160" cy="1554120"/>
          </a:xfrm>
          <a:prstGeom prst="rect">
            <a:avLst/>
          </a:prstGeom>
          <a:ln w="0">
            <a:noFill/>
          </a:ln>
        </p:spPr>
      </p:pic>
      <p:pic>
        <p:nvPicPr>
          <p:cNvPr id="76" name="Content Placeholder 4" descr=""/>
          <p:cNvPicPr/>
          <p:nvPr/>
        </p:nvPicPr>
        <p:blipFill>
          <a:blip r:embed="rId6"/>
          <a:stretch/>
        </p:blipFill>
        <p:spPr>
          <a:xfrm>
            <a:off x="4133880" y="4870440"/>
            <a:ext cx="170028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12:57:04Z</dcterms:created>
  <dc:creator>user</dc:creator>
  <dc:description/>
  <dc:language>en-US</dc:language>
  <cp:lastModifiedBy>Lietotajs1</cp:lastModifiedBy>
  <dcterms:modified xsi:type="dcterms:W3CDTF">2018-02-07T07:08:38Z</dcterms:modified>
  <cp:revision>14</cp:revision>
  <dc:subject/>
  <dc:title>Piesaistītais finansējums (LVL)</dc:title>
</cp:coreProperties>
</file>