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8987-2D10-4A0A-A42D-7502135FF9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on project implem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Consultation in project writing and planning ph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to find appropriate programme for each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Helping with partner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Taking LP responsibil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Representing all municipalities in “soft” pro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Organizing seminars about EU program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Writing projects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10C5-7D08-4A92-AA3D-2CB2B444A6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1DF-CA37-4B2A-91C5-F8C184E12F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3EAF-0D78-489D-90E3-420AE5F3C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FF48-862E-4DBD-BDBE-DCA1B9A7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76B4-7C6B-4CC0-BA4C-DD96396D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99DD-31C5-4F1A-B4A5-ABB3F23E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895-67BE-48B9-B5EA-64721A6A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352F-E01C-4CAD-A498-4A6D50BE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26C1-BBD2-4A9D-A85D-47021AE9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E894-AC6D-4BFE-A6D5-988BE988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C4A9-E19F-4B3F-94B4-9BC20E28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76C-020E-4A63-864F-F9D73B37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766A-C7EA-41BB-BD3F-54B02C9F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C63-3BF3-489A-AFD5-024B0A8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3F107-6B47-4BFB-9B0B-2FB6189B4E6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hyperlink" Target="http://www.jvmm.lv/index.php?id=56" TargetMode="External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ttēls 6" descr=""/>
          <p:cNvPicPr/>
          <p:nvPr/>
        </p:nvPicPr>
        <p:blipFill>
          <a:blip r:embed="rId1"/>
          <a:stretch/>
        </p:blipFill>
        <p:spPr>
          <a:xfrm>
            <a:off x="0" y="0"/>
            <a:ext cx="9078840" cy="5133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5133600"/>
            <a:ext cx="7323120" cy="17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alibri"/>
              </a:rPr>
              <a:t>Zemgales plānošanas reģions </a:t>
            </a:r>
            <a:br>
              <a:rPr sz="4800"/>
            </a:br>
            <a:r>
              <a:rPr b="1" lang="lv-LV" sz="4800" spc="-1" strike="noStrike">
                <a:solidFill>
                  <a:srgbClr val="000000"/>
                </a:solidFill>
                <a:latin typeface="Calibri"/>
              </a:rPr>
              <a:t>Attīstības plānošan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51640" y="4992480"/>
            <a:ext cx="2984400" cy="95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7205760" y="5110200"/>
            <a:ext cx="2093760" cy="1479600"/>
            <a:chOff x="7205760" y="5110200"/>
            <a:chExt cx="2093760" cy="1479600"/>
          </a:xfrm>
        </p:grpSpPr>
        <p:grpSp>
          <p:nvGrpSpPr>
            <p:cNvPr id="52" name="Rounded Rectangle 4"/>
            <p:cNvGrpSpPr/>
            <p:nvPr/>
          </p:nvGrpSpPr>
          <p:grpSpPr>
            <a:xfrm>
              <a:off x="7205760" y="5110200"/>
              <a:ext cx="2093760" cy="1479600"/>
              <a:chOff x="7205760" y="5110200"/>
              <a:chExt cx="2093760" cy="1479600"/>
            </a:xfrm>
          </p:grpSpPr>
          <p:pic>
            <p:nvPicPr>
              <p:cNvPr id="53" name="Rounded Rectangl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7205760" y="5110200"/>
                <a:ext cx="2093760" cy="147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7289280" y="5194800"/>
                <a:ext cx="1924200" cy="131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" name="Picture 2" descr=""/>
            <p:cNvPicPr/>
            <p:nvPr/>
          </p:nvPicPr>
          <p:blipFill>
            <a:blip r:embed="rId3"/>
            <a:stretch/>
          </p:blipFill>
          <p:spPr>
            <a:xfrm>
              <a:off x="7729920" y="5284080"/>
              <a:ext cx="1042560" cy="113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sistēma Latvij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Satura vietturis 3" descr=""/>
          <p:cNvPicPr/>
          <p:nvPr/>
        </p:nvPicPr>
        <p:blipFill>
          <a:blip r:embed="rId1"/>
          <a:srcRect l="0" t="0" r="9053" b="8613"/>
          <a:stretch/>
        </p:blipFill>
        <p:spPr>
          <a:xfrm>
            <a:off x="457200" y="1266840"/>
            <a:ext cx="83628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780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reģiona loma reģionālajā plānošanā un attīstīb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3" descr=""/>
          <p:cNvPicPr/>
          <p:nvPr/>
        </p:nvPicPr>
        <p:blipFill>
          <a:blip r:embed="rId1"/>
          <a:stretch/>
        </p:blipFill>
        <p:spPr>
          <a:xfrm>
            <a:off x="176040" y="1127160"/>
            <a:ext cx="8358480" cy="53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plānošanas reģiona plānošanas dokumen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iagram 4" descr=""/>
          <p:cNvPicPr/>
          <p:nvPr/>
        </p:nvPicPr>
        <p:blipFill>
          <a:blip r:embed="rId1"/>
          <a:stretch/>
        </p:blipFill>
        <p:spPr>
          <a:xfrm>
            <a:off x="128520" y="1487520"/>
            <a:ext cx="90280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VIDĒJA TERMIŅA ATTĪSTĪBAS STRATĒĢISKĀ STRUKTŪ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3" descr=""/>
          <p:cNvPicPr/>
          <p:nvPr/>
        </p:nvPicPr>
        <p:blipFill>
          <a:blip r:embed="rId1"/>
          <a:stretch/>
        </p:blipFill>
        <p:spPr>
          <a:xfrm>
            <a:off x="457200" y="1590840"/>
            <a:ext cx="76201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ZEMGALES ILGTERMIŅA ATTĪSTĪBAS PRIORITĀTES 203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reģions ar attīstītu bioekonomik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uz vietējiem resursiem balstītu lauku saimniekošanu. Zemgale – intensīvās lauksaimniecības un ekosaimniekošanas „sadzīvošanas” model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s nacionālas un reģionālas nozīmes pilsēta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– reģiona rūpniecības un pakalpojumu centri, kas dod attīstības starojumu lauku teritorijā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Apdzīvoti Zemgales lauku apvidi,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kur attīstās mazā uzņēmējdarbīb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ir saglabāta tradicionālā dzīves vide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94c6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Zemgale - izglītības, zinātnes un inovāciju reģions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r Latvijas lauksaimniecības universitāti kā intelektuālo potenciālu lauku attīstībai un spēcīgām profesionālās izglītības iespējām reģionam nozīmīgās kompetencē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6+2: ZEMGALES VIDĒJA TERMIŅA ATTĪSTĪBAS PRIORITĀ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Vidēja termiņa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Uzņēmējdarbībai pievilcīga vide – bāze inovācijām ilgtermiņā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lastīga izglītība mūža garum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3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transporta sistēma reģiona ārējai un iekšējai sasniedzamīb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4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des un dabas resursu ilgtspējīga apsaimniekošana un attīst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5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Efektīva pakalpojumu sistē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P6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Zemgales kultūrvide un identitāte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</a:rPr>
              <a:t>Horizontālās prioritātes: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1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Apdzīvotības saglabāšana – kopienas un dzīves telpas ilgtspēja 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P2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 Vieda pārvaldī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39640" y="1417680"/>
            <a:ext cx="81439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ņēmējdarbības veicināšana, inovācija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ūrisms, kultūra un amatniec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des aizsardzība un da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Izglīt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nergoefektivitāte un atjaunojamie energoresursi (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ociālie pakalpojum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apacitātes stiprināšana un reģionālā plānoša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ranspor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ziedzīb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396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Calibri"/>
              </a:rPr>
              <a:t>Plānošanas dokumentu ieviešana – projektu īstenoša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C:\Users\Inese G\Desktop\DSC01449.JPG"/>
          <p:cNvPicPr/>
          <p:nvPr/>
        </p:nvPicPr>
        <p:blipFill>
          <a:blip r:embed="rId1"/>
          <a:stretch/>
        </p:blipFill>
        <p:spPr>
          <a:xfrm>
            <a:off x="6973920" y="332280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C:\Users\user\Desktop\atri\Nap\DSC_0794.jpg"/>
          <p:cNvPicPr/>
          <p:nvPr/>
        </p:nvPicPr>
        <p:blipFill>
          <a:blip r:embed="rId2"/>
          <a:stretch/>
        </p:blipFill>
        <p:spPr>
          <a:xfrm>
            <a:off x="6516720" y="1925640"/>
            <a:ext cx="2401920" cy="1287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C:\Users\user\Documents\DaceV\Projekti\Vides_projekts_2009\bildes\Foto_infrastruktra\Krustpils_infra\DSC_6074.JPG"/>
          <p:cNvPicPr/>
          <p:nvPr/>
        </p:nvPicPr>
        <p:blipFill>
          <a:blip r:embed="rId3"/>
          <a:stretch/>
        </p:blipFill>
        <p:spPr>
          <a:xfrm>
            <a:off x="7510320" y="4761000"/>
            <a:ext cx="1408320" cy="168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sad_56_EKA111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34160" y="4870440"/>
            <a:ext cx="1676160" cy="1554120"/>
          </a:xfrm>
          <a:prstGeom prst="rect">
            <a:avLst/>
          </a:prstGeom>
          <a:ln w="0">
            <a:noFill/>
          </a:ln>
        </p:spPr>
      </p:pic>
      <p:pic>
        <p:nvPicPr>
          <p:cNvPr id="76" name="Content Placeholder 4" descr=""/>
          <p:cNvPicPr/>
          <p:nvPr/>
        </p:nvPicPr>
        <p:blipFill>
          <a:blip r:embed="rId6"/>
          <a:stretch/>
        </p:blipFill>
        <p:spPr>
          <a:xfrm>
            <a:off x="4133880" y="4870440"/>
            <a:ext cx="17002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12:57:04Z</dcterms:created>
  <dc:creator>user</dc:creator>
  <dc:description/>
  <dc:language>en-US</dc:language>
  <cp:lastModifiedBy>Lietotajs1</cp:lastModifiedBy>
  <dcterms:modified xsi:type="dcterms:W3CDTF">2018-02-07T07:08:38Z</dcterms:modified>
  <cp:revision>14</cp:revision>
  <dc:subject/>
  <dc:title>Piesaistītais finansējums (LVL)</dc:title>
</cp:coreProperties>
</file>