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51D-7578-4A7A-A711-63BB3EE29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1FC-AEB5-42E4-B55D-AFEF0D99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A7B-DF8C-4421-975B-EEF5CA8F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FA4-06D2-419D-8A24-286B84CF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59B0-8F1C-4C26-B079-16091D9F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CEB4-C05E-49F0-99C4-460025B9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3241-9CCA-47AA-92A7-C6770D82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4348-E941-46DC-A63C-7A595377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52D-7271-4BF2-BC9B-C6D79F1D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832E-C008-4CCF-A14A-DF7F65D7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5026-24F9-4F7F-8298-A6C7DECB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788-ACBD-4B9C-9583-18E6A7F9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Bezizmešu mobilitātes atbalsta biedrība: www.bimab.lv   E-transports: www.e-transport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DB5C-7A14-4269-8199-EE9A82A2A2E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autodati.lv/El_uzl_tikls.pdf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info@bimab.l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44280"/>
            <a:ext cx="7772400" cy="451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Ieteikumi plāna projektam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„Alternatīvo degvielu/atjaunojamās enerģijas izmantošanas perspektīva transportā Zemgales reģionā”</a:t>
            </a:r>
            <a:br>
              <a:rPr sz="3200"/>
            </a:br>
            <a:r>
              <a:rPr b="1" lang="lv-LV" sz="3200" spc="-1" strike="noStrike">
                <a:solidFill>
                  <a:srgbClr val="984807"/>
                </a:solidFill>
                <a:latin typeface="Calibri"/>
              </a:rPr>
              <a:t> (Atj en transportaa_ZPR_v10-1)</a:t>
            </a:r>
            <a:br>
              <a:rPr sz="3200"/>
            </a:br>
            <a:br>
              <a:rPr sz="32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rnis Bergs, 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Bezizmešu mobilitātes atbalsta biedrības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(BIMAB)</a:t>
            </a:r>
            <a:br>
              <a:rPr sz="2000"/>
            </a:b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ldes priekšsēdētāj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3059280" y="692280"/>
            <a:ext cx="2552400" cy="11300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braukums (Plāns 39.lp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pases datos – saskaņā 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D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New European Driving Cycle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reālā nobraukuma koeficients Latvijā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ā – k = 0,78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ā – k = 0,619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(pētījums “Latvijas nacionālā elektrotransportlīdzekļu uzlādes tīkla izveidošanas analīze”, 34.lp., </a:t>
            </a:r>
            <a:r>
              <a:rPr b="0" lang="lv-LV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utodati.lv/El_uzl_tikls.pdf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AM tradicionālo degvielu patēriņa koeficients: ?!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19AA-E354-4166-801A-1F2BD1C5BFDC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autonomija</a:t>
            </a:r>
            <a:br>
              <a:rPr sz="4400"/>
            </a:b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(nobraukums līdz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ālā nobraucamā attāluma aprēķi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=75km/h , “ECO” režīms ieslēg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sara (+15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50km (k = 0,66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iema (-10</a:t>
            </a:r>
            <a:r>
              <a:rPr b="0" lang="lv-LV" sz="3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) - 20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= 0,53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Nissan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CD42-8587-4ED5-841F-E6A02866576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vilces akumulat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iem ir ierobežots darba mūž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maiņa ir dārga, tāpēc otrreizējās pārdošanas iespējas var būt ierobežotas” (Plāns, 38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ilces akumulatoru garanti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atlikusī ietilpība 70 -75% no sākotnējā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braukums līdz 200 tūkst. km vai līdz 8 gadi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enzīna un dīzeļa mazlitrāžas moto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garantijas laiks, resurss, nomaiņas izmaksas -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4.gada 17.jūnij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34D9-08B5-491A-9891-542CFE87945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Uzlādes pieslēg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r vienfāžu 230 V rozete vai sienas uzlādes skapītis, kuri nodrošina uzlādi no 3,6 kW, 16 A, 230 V vienfāžu elektrotīkla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(Plāns, 39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uzlādes strāv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dzīves rozete – līdz 10A (2,3kW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mantojot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peciālos EM maiņstrāvas pieslēgumu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wall - box” vai citā konstruktīvā izpildījumā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z 3x32A (22kW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7C58-E01B-4972-A282-0E421C3DB29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Tes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kumulatoru grupā virs 31 kWh ietilps 25.6% no pētītajiem ETL. Tie pamatā ir Tesla ETL” (Plāns, 41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lektromobiļa apkopes un remonts: ku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VW e-Golf: 35,8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Wh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00 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unais Nissan Leaf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0 kWh, 378  km (NEDC)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8967-8856-4024-BC2E-609F45507B7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Ūdeņraža - elektriskie transportlīdz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Ūdeņraža transporta infrastruktūra (Plāns, 45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eģionu un pārrobežu sadarbīb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8.gadā Rīgā plānots uzstādīt ūdeņraža (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) uzpildes staciju. Publiski pieejamā H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pildes stacija Rīgā nodrošinā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starpvalst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ūdeņraža uzpildes staciju tīkl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187D-10C4-4FCA-8C26-69451D42540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u skaita trīskāršošana (36 elektromobili) līd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25. gadam.” (Plāns, 56.lp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skaita pieaugums:  2015.gadā par 12%,  2016.g. – 16%,  2017.gadā – 29%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 01.01.2018. reģistrēti kopā 325 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170 – Rīgā, 65 – Rīgai tuvākajās pašvaldībā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CSDD EVK daļas da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E5B5-2EA3-4EA3-BDDA-E9C66659E8ED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6532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adicionālo degvielu motoru automobiļu (AM) pieejamības ierobežojumi no 2025.ga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lstu atteikšanās no jauno AM reģistrācija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M ražotāju plāni par “elektrifikāciju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satiksme” vairs neiegādāsies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īzeļdegvielas autobusu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Rīgas Tehniskā universitāte pirks tik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vai hibrīd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B76-026E-47CB-AF51-E10A935F446A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P un Padomes 2009.gada 23.aprīļa regula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443/2009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emisiju prasības </a:t>
            </a: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jauniem vieglajiem AM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ējo emisiju rādītājs līdz 95 g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/km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s jāpiemēro no 2020. gad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a par pārsniegšanu no 2019.gada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= AM skaits x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5 EUR/g C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km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D587-F585-491C-9F91-EBA1A80E02E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ska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u kabineta 2012.gada 2.oktob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nstrukcija Nr.12  „Dienesta vieglo automobiļu iegādes un nomas kārtība”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inistrijām, citām centrālās valsts iestādēm un to padotībā esošajām iestādē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āli pieļaujamais CO</a:t>
            </a:r>
            <a:r>
              <a:rPr b="0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 izmešu līmenis automobiļi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7680" indent="-337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2020.gadā 95 grami CO</a:t>
            </a:r>
            <a:r>
              <a:rPr b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 izmešu uz kilometru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4F62-D35A-434A-86A9-914C1EFFC36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Alternatīvo degvielu attīstības plān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984807"/>
                </a:solidFill>
                <a:latin typeface="Calibri"/>
              </a:rPr>
              <a:t> 2017.-2020.gadam</a:t>
            </a:r>
            <a:r>
              <a:rPr b="0" lang="lv-LV" sz="4000" spc="-1" strike="noStrike">
                <a:solidFill>
                  <a:srgbClr val="984807"/>
                </a:solidFill>
                <a:latin typeface="Calibri"/>
              </a:rPr>
              <a:t>” aktualizēš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tījums par alternatīvo degviel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viešanas scenārijiem (PwC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TL uzlādes vietu izveides būvnormatīvu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zstrā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S jaunās direktīvas par ēku energoefektivitāti pārņemšana: minimālās prasības par ETL uzlādes vietām pie sabiedriskajām būvē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5742C-93AD-4092-91F6-030833C65366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Apskatei: elektromobilis BMW i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9BCE-67FC-4761-BB7B-86876C3CFB34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admin\Desktop\e MOBILITĀTES STENDS 2017\Foto Sixt\20171020_093812.jpg"/>
          <p:cNvPicPr/>
          <p:nvPr/>
        </p:nvPicPr>
        <p:blipFill>
          <a:blip r:embed="rId1"/>
          <a:stretch/>
        </p:blipFill>
        <p:spPr>
          <a:xfrm>
            <a:off x="1619280" y="1125360"/>
            <a:ext cx="4889520" cy="3667320"/>
          </a:xfrm>
          <a:prstGeom prst="rect">
            <a:avLst/>
          </a:prstGeom>
          <a:ln w="0">
            <a:noFill/>
          </a:ln>
        </p:spPr>
      </p:pic>
      <p:sp>
        <p:nvSpPr>
          <p:cNvPr id="119" name="Taisnstūris 5"/>
          <p:cNvSpPr/>
          <p:nvPr/>
        </p:nvSpPr>
        <p:spPr>
          <a:xfrm>
            <a:off x="5724360" y="5805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43440" indent="-5743440" algn="ctr">
              <a:tabLst>
                <a:tab algn="l" pos="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info@bimab.l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9640" y="480924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  <a:ea typeface="Calibri"/>
              </a:rPr>
              <a:t>Foto: EM uzlādes vieta (divas sadzīves elektrorozetes) pie BT1, Starptautiskā izstāžu centra Ķīpsalā, Rīg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 AER izmantošanas veicināšanu (ar grozījumiem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5.10.2015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3.panta 4.punkta c) apakš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M izmantoto zaļo elektroenerģiju AER izpildē ieskaita ar koeficientu “5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eficients “5” kompensē EM energoefektivitāti – enerģijas patēriņa samazinājum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6120" indent="-276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3B88C-99F7-49D4-8EE1-F7F3A31F3C1F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kārtām, kas atradās ekspluatācij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2015.gada 5. oktobrī vai pirms minētās dienas 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ām un bioloģiskajam šķidraj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urināmajam jāpanāk SEG emisiju ietaupīj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35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līdz 2017. gada 31. decembrim 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76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5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no 2018. gada 1. janvāra”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0070-F16E-4690-8C50-56E373B00212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AER transporta enerģ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irektīva 2009/28/EK 17.panta 2.punk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EG samazinājums … vismaz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60 %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attiecībā uz biodegvielām un bioloģisko šķidro kurināmo, ko ražo iekārtās, kuru ekspluatācija sākta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ēc 2015. gada 5. oktobra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SEG &gt; CO</a:t>
            </a:r>
            <a:r>
              <a:rPr b="1" i="1" lang="lv-LV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556A1-BE70-492E-9C0D-B0B04627C7A3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Citi transporta enerģijas kritērij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1.Energoefektivitā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2.SEG samazinājuma efek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VARAM izstrādā plānu 2021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.-2030.gad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3.Dzīvībai kaitīgo izmešu samazināju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iem., bērnudārzi un skolas pie intensīvas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plūsmas ielā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8FF-51F5-4899-A11B-A97F877A5F9B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lānā: “biodegvielu izmantošanas pieaugums Zemgales reģionā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Ieteiku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 transporta enerģijas īpatsvara pieaugums Zemgales reģion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9B4B-0589-473A-B038-212348F4750E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Mērķis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Zemgales reģiona komersantu iesaistīšanās alternatīvo degvielu tirgū”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uzlādes pakalpojuma sniegšan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jaunīgās, ilgtspējas kritērijiem atbilstošas, transporta enerģijas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iodegviel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- zaļā elektroenerģija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otoelektrisko paneļu ražošan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Lietuvā jau raž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874F-146B-462E-943E-078F3C0A3A75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984807"/>
                </a:solidFill>
                <a:latin typeface="Calibri"/>
              </a:rPr>
              <a:t>Elektromobiļu uzlāde – iespējas paplašinā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lektromobiļa saņemtā uzlādes strāva nedrīkst būt mainīga un svārstīga, jo pretējā gadījumā elektromobilis var automātiski atslēgties no uzlādes avota.” (Plāns, 37.lp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Uzlādes strāva var būt mainīga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tomātiska uzlādes jaudas vadī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tbilstoši reālajā laikā pieejamajai elektroenerģijas jaudai pieslēguma viet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Kājenes vietturis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2018.gada 7.februāris  BIM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aida numura vietturis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9842-370E-407C-9C02-27CC9BEA5C91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1:57:36Z</dcterms:created>
  <dc:creator>Arnis</dc:creator>
  <dc:description/>
  <dc:language>en-US</dc:language>
  <cp:lastModifiedBy>admin</cp:lastModifiedBy>
  <dcterms:modified xsi:type="dcterms:W3CDTF">2018-02-06T09:40:26Z</dcterms:modified>
  <cp:revision>780</cp:revision>
  <dc:subject/>
  <dc:title>Slide 1</dc:title>
</cp:coreProperties>
</file>